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12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Construction mécanique /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ours système Vis – Ecrou (filetage – taraud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854920" y="44280"/>
            <a:ext cx="214560" cy="228600"/>
          </a:xfrm>
          <a:custGeom>
            <a:avLst/>
            <a:gdLst>
              <a:gd name="textAreaLeft" fmla="*/ 13680 w 214560"/>
              <a:gd name="textAreaRight" fmla="*/ 200880 w 214560"/>
              <a:gd name="textAreaTop" fmla="*/ 13680 h 228600"/>
              <a:gd name="textAreaBottom" fmla="*/ 214920 h 228600"/>
            </a:gdLst>
            <a:ahLst/>
            <a:rect l="textAreaLeft" t="textAreaTop" r="textAreaRight" b="textAreaBottom"/>
            <a:pathLst>
              <a:path w="21600" h="23011">
                <a:moveTo>
                  <a:pt x="0" y="0"/>
                </a:moveTo>
                <a:lnTo>
                  <a:pt x="21600" y="0"/>
                </a:lnTo>
                <a:lnTo>
                  <a:pt x="21600" y="23011"/>
                </a:lnTo>
                <a:lnTo>
                  <a:pt x="0" y="23011"/>
                </a:lnTo>
                <a:close/>
              </a:path>
              <a:path fill="lightenLess" w="21600" h="230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1">
                <a:moveTo>
                  <a:pt x="21600" y="0"/>
                </a:moveTo>
                <a:lnTo>
                  <a:pt x="21600" y="23011"/>
                </a:lnTo>
                <a:lnTo>
                  <a:pt x="20200" y="21611"/>
                </a:lnTo>
                <a:lnTo>
                  <a:pt x="20200" y="1400"/>
                </a:lnTo>
                <a:close/>
              </a:path>
              <a:path fill="darkenLess" w="21600" h="23011">
                <a:moveTo>
                  <a:pt x="21600" y="23011"/>
                </a:moveTo>
                <a:lnTo>
                  <a:pt x="0" y="23011"/>
                </a:lnTo>
                <a:lnTo>
                  <a:pt x="1400" y="21611"/>
                </a:lnTo>
                <a:lnTo>
                  <a:pt x="20200" y="21611"/>
                </a:lnTo>
                <a:close/>
              </a:path>
              <a:path fill="lighten" w="21600" h="23011">
                <a:moveTo>
                  <a:pt x="0" y="230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>
            <a:hlinkClick r:id="rId2" action="ppaction://hlinksldjump"/>
          </p:cNvPr>
          <p:cNvSpPr/>
          <p:nvPr/>
        </p:nvSpPr>
        <p:spPr>
          <a:xfrm>
            <a:off x="8380440" y="44280"/>
            <a:ext cx="262080" cy="228600"/>
          </a:xfrm>
          <a:custGeom>
            <a:avLst/>
            <a:gdLst>
              <a:gd name="textAreaLeft" fmla="*/ 14760 w 262080"/>
              <a:gd name="textAreaRight" fmla="*/ 247320 w 262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4758" h="21600">
                <a:moveTo>
                  <a:pt x="0" y="0"/>
                </a:moveTo>
                <a:lnTo>
                  <a:pt x="24758" y="0"/>
                </a:lnTo>
                <a:lnTo>
                  <a:pt x="24758" y="21600"/>
                </a:lnTo>
                <a:lnTo>
                  <a:pt x="0" y="21600"/>
                </a:lnTo>
                <a:close/>
              </a:path>
              <a:path fill="lightenLess" w="24758" h="21600">
                <a:moveTo>
                  <a:pt x="0" y="0"/>
                </a:moveTo>
                <a:lnTo>
                  <a:pt x="24758" y="0"/>
                </a:lnTo>
                <a:lnTo>
                  <a:pt x="23358" y="1400"/>
                </a:lnTo>
                <a:lnTo>
                  <a:pt x="1400" y="1400"/>
                </a:lnTo>
                <a:close/>
              </a:path>
              <a:path fill="darken" w="24758" h="21600">
                <a:moveTo>
                  <a:pt x="24758" y="0"/>
                </a:moveTo>
                <a:lnTo>
                  <a:pt x="24758" y="21600"/>
                </a:lnTo>
                <a:lnTo>
                  <a:pt x="23358" y="20200"/>
                </a:lnTo>
                <a:lnTo>
                  <a:pt x="23358" y="1400"/>
                </a:lnTo>
                <a:close/>
              </a:path>
              <a:path fill="darkenLess" w="24758" h="21600">
                <a:moveTo>
                  <a:pt x="24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8" y="20200"/>
                </a:lnTo>
                <a:close/>
              </a:path>
              <a:path fill="lighten" w="24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8" h="21600">
                <a:moveTo>
                  <a:pt x="12379" y="3837"/>
                </a:moveTo>
                <a:lnTo>
                  <a:pt x="14956" y="6448"/>
                </a:lnTo>
                <a:lnTo>
                  <a:pt x="14956" y="4707"/>
                </a:lnTo>
                <a:lnTo>
                  <a:pt x="16731" y="4707"/>
                </a:lnTo>
                <a:lnTo>
                  <a:pt x="16731" y="8224"/>
                </a:lnTo>
                <a:lnTo>
                  <a:pt x="19342" y="10800"/>
                </a:lnTo>
                <a:lnTo>
                  <a:pt x="17689" y="10800"/>
                </a:lnTo>
                <a:lnTo>
                  <a:pt x="17689" y="17989"/>
                </a:lnTo>
                <a:lnTo>
                  <a:pt x="7070" y="17989"/>
                </a:lnTo>
                <a:lnTo>
                  <a:pt x="7070" y="10800"/>
                </a:lnTo>
                <a:lnTo>
                  <a:pt x="5416" y="10800"/>
                </a:lnTo>
                <a:close/>
              </a:path>
              <a:path fill="darkenLess" w="24758" h="21600">
                <a:moveTo>
                  <a:pt x="14956" y="6448"/>
                </a:moveTo>
                <a:lnTo>
                  <a:pt x="14956" y="4707"/>
                </a:lnTo>
                <a:lnTo>
                  <a:pt x="16731" y="4707"/>
                </a:lnTo>
                <a:lnTo>
                  <a:pt x="16731" y="8224"/>
                </a:lnTo>
                <a:close/>
              </a:path>
              <a:path fill="darkenLess" w="24758" h="21600">
                <a:moveTo>
                  <a:pt x="11457" y="14299"/>
                </a:moveTo>
                <a:lnTo>
                  <a:pt x="13302" y="14299"/>
                </a:lnTo>
                <a:lnTo>
                  <a:pt x="13302" y="17989"/>
                </a:lnTo>
                <a:lnTo>
                  <a:pt x="17689" y="17989"/>
                </a:lnTo>
                <a:lnTo>
                  <a:pt x="17689" y="10800"/>
                </a:lnTo>
                <a:lnTo>
                  <a:pt x="7070" y="10800"/>
                </a:lnTo>
                <a:lnTo>
                  <a:pt x="7070" y="17989"/>
                </a:lnTo>
                <a:lnTo>
                  <a:pt x="11457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642520" y="44280"/>
            <a:ext cx="212400" cy="228600"/>
          </a:xfrm>
          <a:custGeom>
            <a:avLst/>
            <a:gdLst>
              <a:gd name="textAreaLeft" fmla="*/ 13680 w 212400"/>
              <a:gd name="textAreaRight" fmla="*/ 198720 w 212400"/>
              <a:gd name="textAreaTop" fmla="*/ 13680 h 228600"/>
              <a:gd name="textAreaBottom" fmla="*/ 214920 h 228600"/>
            </a:gdLst>
            <a:ahLst/>
            <a:rect l="textAreaLeft" t="textAreaTop" r="textAreaRight" b="textAreaBottom"/>
            <a:pathLst>
              <a:path w="21600" h="23245">
                <a:moveTo>
                  <a:pt x="0" y="0"/>
                </a:moveTo>
                <a:lnTo>
                  <a:pt x="21600" y="0"/>
                </a:lnTo>
                <a:lnTo>
                  <a:pt x="21600" y="23245"/>
                </a:lnTo>
                <a:lnTo>
                  <a:pt x="0" y="23245"/>
                </a:lnTo>
                <a:close/>
              </a:path>
              <a:path fill="lightenLess" w="21600" h="232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45">
                <a:moveTo>
                  <a:pt x="21600" y="0"/>
                </a:moveTo>
                <a:lnTo>
                  <a:pt x="21600" y="23245"/>
                </a:lnTo>
                <a:lnTo>
                  <a:pt x="20200" y="21845"/>
                </a:lnTo>
                <a:lnTo>
                  <a:pt x="20200" y="1400"/>
                </a:lnTo>
                <a:close/>
              </a:path>
              <a:path fill="darkenLess" w="21600" h="23245">
                <a:moveTo>
                  <a:pt x="21600" y="23245"/>
                </a:moveTo>
                <a:lnTo>
                  <a:pt x="0" y="23245"/>
                </a:lnTo>
                <a:lnTo>
                  <a:pt x="1400" y="21845"/>
                </a:lnTo>
                <a:lnTo>
                  <a:pt x="20200" y="21845"/>
                </a:lnTo>
                <a:close/>
              </a:path>
              <a:path fill="lighten" w="21600" h="23245">
                <a:moveTo>
                  <a:pt x="0" y="232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4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image" Target="../media/image4.gif"/><Relationship Id="rId8" Type="http://schemas.openxmlformats.org/officeDocument/2006/relationships/image" Target="../media/image5.png"/><Relationship Id="rId9" Type="http://schemas.openxmlformats.org/officeDocument/2006/relationships/hyperlink" Target="file:///Videos/Fileta02.avi" TargetMode="External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3.png"/><Relationship Id="rId7" Type="http://schemas.openxmlformats.org/officeDocument/2006/relationships/image" Target="../media/image4.gif"/><Relationship Id="rId8" Type="http://schemas.openxmlformats.org/officeDocument/2006/relationships/image" Target="../media/image5.png"/><Relationship Id="rId9" Type="http://schemas.openxmlformats.org/officeDocument/2006/relationships/hyperlink" Target="file:///Videos/Fileta01.avi" TargetMode="External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693000" y="4685400"/>
            <a:ext cx="3101760" cy="457920"/>
          </a:xfrm>
          <a:custGeom>
            <a:avLst/>
            <a:gdLst>
              <a:gd name="textAreaLeft" fmla="*/ 29520 w 3101760"/>
              <a:gd name="textAreaRight" fmla="*/ 3072240 w 31017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146211" h="21600">
                <a:moveTo>
                  <a:pt x="0" y="0"/>
                </a:moveTo>
                <a:lnTo>
                  <a:pt x="146211" y="0"/>
                </a:lnTo>
                <a:lnTo>
                  <a:pt x="146211" y="21600"/>
                </a:lnTo>
                <a:lnTo>
                  <a:pt x="0" y="21600"/>
                </a:lnTo>
                <a:close/>
              </a:path>
              <a:path fill="lightenLess" w="146211" h="21600">
                <a:moveTo>
                  <a:pt x="0" y="0"/>
                </a:moveTo>
                <a:lnTo>
                  <a:pt x="146211" y="0"/>
                </a:lnTo>
                <a:lnTo>
                  <a:pt x="144812" y="1400"/>
                </a:lnTo>
                <a:lnTo>
                  <a:pt x="1400" y="1400"/>
                </a:lnTo>
                <a:close/>
              </a:path>
              <a:path fill="darken" w="146211" h="21600">
                <a:moveTo>
                  <a:pt x="146211" y="0"/>
                </a:moveTo>
                <a:lnTo>
                  <a:pt x="146211" y="21600"/>
                </a:lnTo>
                <a:lnTo>
                  <a:pt x="144812" y="20200"/>
                </a:lnTo>
                <a:lnTo>
                  <a:pt x="144812" y="1400"/>
                </a:lnTo>
                <a:close/>
              </a:path>
              <a:path fill="darkenLess" w="146211" h="21600">
                <a:moveTo>
                  <a:pt x="1462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812" y="20200"/>
                </a:lnTo>
                <a:close/>
              </a:path>
              <a:path fill="lighten" w="1462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éalisation du fil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95280" y="3429000"/>
            <a:ext cx="3699000" cy="1265400"/>
            <a:chOff x="395280" y="3429000"/>
            <a:chExt cx="3699000" cy="126540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589120" y="3795840"/>
              <a:ext cx="150516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95280" y="3429000"/>
              <a:ext cx="1687320" cy="12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979640" y="3956040"/>
              <a:ext cx="506520" cy="287640"/>
            </a:xfrm>
            <a:prstGeom prst="rightArrow">
              <a:avLst>
                <a:gd name="adj1" fmla="val 50000"/>
                <a:gd name="adj2" fmla="val 44024"/>
              </a:avLst>
            </a:prstGeom>
            <a:solidFill>
              <a:srgbClr val="8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 file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4160" y="1268280"/>
            <a:ext cx="8635680" cy="104220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e filet est la partie en saillie obtenue en creusant une rainure hélicoïdale, ce filet est réalisé par la combinaison de deux mouvements, rotation du cylindre et translation de l’out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010120" y="3500280"/>
            <a:ext cx="3816360" cy="1189080"/>
            <a:chOff x="5010120" y="3500280"/>
            <a:chExt cx="3816360" cy="1189080"/>
          </a:xfrm>
        </p:grpSpPr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7242120" y="3500280"/>
              <a:ext cx="158436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5010120" y="3795840"/>
              <a:ext cx="150480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594480" y="3956040"/>
              <a:ext cx="506520" cy="287280"/>
            </a:xfrm>
            <a:prstGeom prst="rightArrow">
              <a:avLst>
                <a:gd name="adj1" fmla="val 50000"/>
                <a:gd name="adj2" fmla="val 44079"/>
              </a:avLst>
            </a:prstGeom>
            <a:solidFill>
              <a:srgbClr val="8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5037480" y="4685400"/>
            <a:ext cx="3648960" cy="457920"/>
          </a:xfrm>
          <a:custGeom>
            <a:avLst/>
            <a:gdLst>
              <a:gd name="textAreaLeft" fmla="*/ 29520 w 3648960"/>
              <a:gd name="textAreaRight" fmla="*/ 3619440 w 364896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172003" h="21600">
                <a:moveTo>
                  <a:pt x="0" y="0"/>
                </a:moveTo>
                <a:lnTo>
                  <a:pt x="172003" y="0"/>
                </a:lnTo>
                <a:lnTo>
                  <a:pt x="172003" y="21600"/>
                </a:lnTo>
                <a:lnTo>
                  <a:pt x="0" y="21600"/>
                </a:lnTo>
                <a:close/>
              </a:path>
              <a:path fill="lightenLess" w="172003" h="21600">
                <a:moveTo>
                  <a:pt x="0" y="0"/>
                </a:moveTo>
                <a:lnTo>
                  <a:pt x="172003" y="0"/>
                </a:lnTo>
                <a:lnTo>
                  <a:pt x="170603" y="1400"/>
                </a:lnTo>
                <a:lnTo>
                  <a:pt x="1400" y="1400"/>
                </a:lnTo>
                <a:close/>
              </a:path>
              <a:path fill="darken" w="172003" h="21600">
                <a:moveTo>
                  <a:pt x="172003" y="0"/>
                </a:moveTo>
                <a:lnTo>
                  <a:pt x="172003" y="21600"/>
                </a:lnTo>
                <a:lnTo>
                  <a:pt x="170603" y="20200"/>
                </a:lnTo>
                <a:lnTo>
                  <a:pt x="170603" y="1400"/>
                </a:lnTo>
                <a:close/>
              </a:path>
              <a:path fill="darkenLess" w="172003" h="21600">
                <a:moveTo>
                  <a:pt x="172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0603" y="20200"/>
                </a:lnTo>
                <a:close/>
              </a:path>
              <a:path fill="lighten" w="172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présentation du fil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10160" y="5589720"/>
            <a:ext cx="1725120" cy="1110960"/>
            <a:chOff x="3710160" y="5589720"/>
            <a:chExt cx="1725120" cy="1110960"/>
          </a:xfrm>
        </p:grpSpPr>
        <p:grpSp>
          <p:nvGrpSpPr>
            <p:cNvPr id="55" name=""/>
            <p:cNvGrpSpPr/>
            <p:nvPr/>
          </p:nvGrpSpPr>
          <p:grpSpPr>
            <a:xfrm>
              <a:off x="3710160" y="5589720"/>
              <a:ext cx="1725120" cy="742680"/>
              <a:chOff x="3710160" y="5589720"/>
              <a:chExt cx="1725120" cy="742680"/>
            </a:xfrm>
          </p:grpSpPr>
          <p:pic>
            <p:nvPicPr>
              <p:cNvPr id="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60680" y="5589720"/>
                <a:ext cx="1074600" cy="74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710160" y="5667120"/>
                <a:ext cx="571320" cy="560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" name=""/>
            <p:cNvSpPr/>
            <p:nvPr/>
          </p:nvSpPr>
          <p:spPr>
            <a:xfrm>
              <a:off x="3749760" y="6364440"/>
              <a:ext cx="1598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 u="sng">
                  <a:solidFill>
                    <a:srgbClr val="009999"/>
                  </a:solidFill>
                  <a:uFillTx/>
                  <a:latin typeface="Verdana"/>
                  <a:hlinkClick r:id="rId9"/>
                </a:rPr>
                <a:t>Vidéo 1 : Filet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4160" y="1295280"/>
            <a:ext cx="8635680" cy="175500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’outil de filetage est la fili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urieuse pièce ronde, en acier spécial, usinée en forme de trèfle... à trois feuilles, la filière s’enchâsse dans un porte-filière. Le porte-filière permet une prise ferme de l’outil, un vissage régulier et équilibré. Il est pourvu d’un dispositif de serrage de la filière simple mais sûr.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6840" y="3789360"/>
            <a:ext cx="6743880" cy="2171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 réalisation du file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440" y="2909880"/>
            <a:ext cx="2253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5440" y="2909880"/>
            <a:ext cx="2253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5440" y="2909880"/>
            <a:ext cx="2253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5440" y="2909880"/>
            <a:ext cx="2253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 représentation du file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FILETA00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1889280" cy="1420920"/>
          </a:xfrm>
          <a:prstGeom prst="rect">
            <a:avLst/>
          </a:prstGeom>
          <a:ln w="0">
            <a:noFill/>
          </a:ln>
        </p:spPr>
      </p:pic>
      <p:pic>
        <p:nvPicPr>
          <p:cNvPr id="68" name="FILETA02" descr=""/>
          <p:cNvPicPr/>
          <p:nvPr/>
        </p:nvPicPr>
        <p:blipFill>
          <a:blip r:embed="rId2"/>
          <a:stretch/>
        </p:blipFill>
        <p:spPr>
          <a:xfrm>
            <a:off x="3635280" y="1268280"/>
            <a:ext cx="1873440" cy="1405080"/>
          </a:xfrm>
          <a:prstGeom prst="rect">
            <a:avLst/>
          </a:prstGeom>
          <a:ln w="0">
            <a:noFill/>
          </a:ln>
        </p:spPr>
      </p:pic>
      <p:pic>
        <p:nvPicPr>
          <p:cNvPr id="69" name="FILETA03" descr=""/>
          <p:cNvPicPr/>
          <p:nvPr/>
        </p:nvPicPr>
        <p:blipFill>
          <a:blip r:embed="rId3"/>
          <a:stretch/>
        </p:blipFill>
        <p:spPr>
          <a:xfrm>
            <a:off x="6300720" y="1268280"/>
            <a:ext cx="1944720" cy="1459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95440" y="2909880"/>
            <a:ext cx="2253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5440" y="2909880"/>
            <a:ext cx="2253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440" y="2637720"/>
            <a:ext cx="16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pièce est un cylind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564000" y="3716280"/>
            <a:ext cx="1954080" cy="1468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826920" y="3716280"/>
            <a:ext cx="1954440" cy="1468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300720" y="3716280"/>
            <a:ext cx="1954440" cy="1468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96400" y="1112040"/>
            <a:ext cx="73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Pour la représentation en dessin, on doit penser à l’usinage qui a permit de réaliser notre filet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2644200"/>
            <a:ext cx="19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cylindre en vue de 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2000" y="26442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cylindre est dessiné en trait f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1634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is on usine le fil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64000" y="5176440"/>
            <a:ext cx="197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fond du filet est représenté en trait f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05600" y="5163480"/>
            <a:ext cx="22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résentation en dessin industri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56000" y="1773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8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1773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8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4292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8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08720" y="429264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8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01800" y="5734080"/>
            <a:ext cx="1725120" cy="1110960"/>
            <a:chOff x="901800" y="5734080"/>
            <a:chExt cx="1725120" cy="1110960"/>
          </a:xfrm>
        </p:grpSpPr>
        <p:grpSp>
          <p:nvGrpSpPr>
            <p:cNvPr id="87" name=""/>
            <p:cNvGrpSpPr/>
            <p:nvPr/>
          </p:nvGrpSpPr>
          <p:grpSpPr>
            <a:xfrm>
              <a:off x="901800" y="5734080"/>
              <a:ext cx="1725120" cy="742680"/>
              <a:chOff x="901800" y="5734080"/>
              <a:chExt cx="1725120" cy="742680"/>
            </a:xfrm>
          </p:grpSpPr>
          <p:pic>
            <p:nvPicPr>
              <p:cNvPr id="8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52320" y="5734080"/>
                <a:ext cx="1074600" cy="74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901800" y="5811480"/>
                <a:ext cx="571320" cy="560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" name=""/>
            <p:cNvSpPr/>
            <p:nvPr/>
          </p:nvSpPr>
          <p:spPr>
            <a:xfrm>
              <a:off x="929160" y="6508800"/>
              <a:ext cx="1621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 u="sng">
                  <a:solidFill>
                    <a:srgbClr val="009999"/>
                  </a:solidFill>
                  <a:uFillTx/>
                  <a:latin typeface="Verdana"/>
                  <a:hlinkClick r:id="rId9"/>
                </a:rPr>
                <a:t>Vidéo 2 : Usin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55720" y="1166760"/>
            <a:ext cx="5624640" cy="551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 représentation du file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5440" y="2909880"/>
            <a:ext cx="2253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5440" y="2909880"/>
            <a:ext cx="2253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5440" y="2909880"/>
            <a:ext cx="2253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5440" y="2909880"/>
            <a:ext cx="2253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704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 cotation des pièces file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7040" y="1584360"/>
            <a:ext cx="8636040" cy="131076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our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ter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un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iletage extérieur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, il faut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isposer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au </a:t>
            </a: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minimu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’un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vue de fac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Sur cett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vu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, nous mettrons en place le </a:t>
            </a: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Diamètre Nominal « D »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(précédé de la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ettre 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ymbole de la forme des filet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), puis la </a:t>
            </a: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Longueur filetée « L »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our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aciliter la mise en plac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e la tige filetée, il est, de plus, conseillé de terminer par un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hanfrei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e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45°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ont la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auteur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sera égale à la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aleur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u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a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(avec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 = 0,1 x D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27200" y="3429000"/>
          <a:ext cx="5824440" cy="28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7200" y="3429000"/>
                    <a:ext cx="582444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3:28:11Z</dcterms:created>
  <dc:creator>Jordi et Mariejo</dc:creator>
  <dc:description/>
  <dc:language>en-US</dc:language>
  <cp:lastModifiedBy> </cp:lastModifiedBy>
  <dcterms:modified xsi:type="dcterms:W3CDTF">2007-01-07T21:24:35Z</dcterms:modified>
  <cp:revision>782</cp:revision>
  <dc:subject/>
  <dc:title>Diapositive 1</dc:title>
</cp:coreProperties>
</file>