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Construction mécanique /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ours exécution graphique de la c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854920" y="44280"/>
            <a:ext cx="214560" cy="22860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28600"/>
              <a:gd name="textAreaBottom" fmla="*/ 214920 h 228600"/>
            </a:gdLst>
            <a:ahLst/>
            <a:rect l="textAreaLeft" t="textAreaTop" r="textAreaRight" b="textAreaBottom"/>
            <a:pathLst>
              <a:path w="21600" h="23011">
                <a:moveTo>
                  <a:pt x="0" y="0"/>
                </a:moveTo>
                <a:lnTo>
                  <a:pt x="21600" y="0"/>
                </a:lnTo>
                <a:lnTo>
                  <a:pt x="21600" y="23011"/>
                </a:lnTo>
                <a:lnTo>
                  <a:pt x="0" y="23011"/>
                </a:lnTo>
                <a:close/>
              </a:path>
              <a:path fill="lightenLess" w="21600" h="230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1">
                <a:moveTo>
                  <a:pt x="21600" y="0"/>
                </a:moveTo>
                <a:lnTo>
                  <a:pt x="21600" y="23011"/>
                </a:lnTo>
                <a:lnTo>
                  <a:pt x="20200" y="21611"/>
                </a:lnTo>
                <a:lnTo>
                  <a:pt x="20200" y="1400"/>
                </a:lnTo>
                <a:close/>
              </a:path>
              <a:path fill="darkenLess" w="21600" h="23011">
                <a:moveTo>
                  <a:pt x="21600" y="23011"/>
                </a:moveTo>
                <a:lnTo>
                  <a:pt x="0" y="23011"/>
                </a:lnTo>
                <a:lnTo>
                  <a:pt x="1400" y="21611"/>
                </a:lnTo>
                <a:lnTo>
                  <a:pt x="20200" y="21611"/>
                </a:lnTo>
                <a:close/>
              </a:path>
              <a:path fill="lighten" w="21600" h="23011">
                <a:moveTo>
                  <a:pt x="0" y="230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>
            <a:hlinkClick r:id="rId2" action="ppaction://hlinksldjump"/>
          </p:cNvPr>
          <p:cNvSpPr/>
          <p:nvPr/>
        </p:nvSpPr>
        <p:spPr>
          <a:xfrm>
            <a:off x="8380440" y="44280"/>
            <a:ext cx="262080" cy="228600"/>
          </a:xfrm>
          <a:custGeom>
            <a:avLst/>
            <a:gdLst>
              <a:gd name="textAreaLeft" fmla="*/ 14760 w 262080"/>
              <a:gd name="textAreaRight" fmla="*/ 247320 w 262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4758" h="21600">
                <a:moveTo>
                  <a:pt x="0" y="0"/>
                </a:moveTo>
                <a:lnTo>
                  <a:pt x="24758" y="0"/>
                </a:lnTo>
                <a:lnTo>
                  <a:pt x="24758" y="21600"/>
                </a:lnTo>
                <a:lnTo>
                  <a:pt x="0" y="21600"/>
                </a:lnTo>
                <a:close/>
              </a:path>
              <a:path fill="lightenLess" w="24758" h="21600">
                <a:moveTo>
                  <a:pt x="0" y="0"/>
                </a:moveTo>
                <a:lnTo>
                  <a:pt x="24758" y="0"/>
                </a:lnTo>
                <a:lnTo>
                  <a:pt x="23358" y="1400"/>
                </a:lnTo>
                <a:lnTo>
                  <a:pt x="1400" y="1400"/>
                </a:lnTo>
                <a:close/>
              </a:path>
              <a:path fill="darken" w="24758" h="21600">
                <a:moveTo>
                  <a:pt x="24758" y="0"/>
                </a:moveTo>
                <a:lnTo>
                  <a:pt x="24758" y="21600"/>
                </a:lnTo>
                <a:lnTo>
                  <a:pt x="23358" y="20200"/>
                </a:lnTo>
                <a:lnTo>
                  <a:pt x="23358" y="1400"/>
                </a:lnTo>
                <a:close/>
              </a:path>
              <a:path fill="darkenLess" w="24758" h="21600">
                <a:moveTo>
                  <a:pt x="24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8" y="20200"/>
                </a:lnTo>
                <a:close/>
              </a:path>
              <a:path fill="lighten" w="24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8" h="21600">
                <a:moveTo>
                  <a:pt x="12379" y="3837"/>
                </a:moveTo>
                <a:lnTo>
                  <a:pt x="14956" y="6448"/>
                </a:lnTo>
                <a:lnTo>
                  <a:pt x="14956" y="4707"/>
                </a:lnTo>
                <a:lnTo>
                  <a:pt x="16731" y="4707"/>
                </a:lnTo>
                <a:lnTo>
                  <a:pt x="16731" y="8224"/>
                </a:lnTo>
                <a:lnTo>
                  <a:pt x="19342" y="10800"/>
                </a:lnTo>
                <a:lnTo>
                  <a:pt x="17689" y="10800"/>
                </a:lnTo>
                <a:lnTo>
                  <a:pt x="17689" y="17989"/>
                </a:lnTo>
                <a:lnTo>
                  <a:pt x="7070" y="17989"/>
                </a:lnTo>
                <a:lnTo>
                  <a:pt x="7070" y="10800"/>
                </a:lnTo>
                <a:lnTo>
                  <a:pt x="5416" y="10800"/>
                </a:lnTo>
                <a:close/>
              </a:path>
              <a:path fill="darkenLess" w="24758" h="21600">
                <a:moveTo>
                  <a:pt x="14956" y="6448"/>
                </a:moveTo>
                <a:lnTo>
                  <a:pt x="14956" y="4707"/>
                </a:lnTo>
                <a:lnTo>
                  <a:pt x="16731" y="4707"/>
                </a:lnTo>
                <a:lnTo>
                  <a:pt x="16731" y="8224"/>
                </a:lnTo>
                <a:close/>
              </a:path>
              <a:path fill="darkenLess" w="24758" h="21600">
                <a:moveTo>
                  <a:pt x="11457" y="14299"/>
                </a:moveTo>
                <a:lnTo>
                  <a:pt x="13302" y="14299"/>
                </a:lnTo>
                <a:lnTo>
                  <a:pt x="13302" y="17989"/>
                </a:lnTo>
                <a:lnTo>
                  <a:pt x="17689" y="17989"/>
                </a:lnTo>
                <a:lnTo>
                  <a:pt x="17689" y="10800"/>
                </a:lnTo>
                <a:lnTo>
                  <a:pt x="7070" y="10800"/>
                </a:lnTo>
                <a:lnTo>
                  <a:pt x="7070" y="17989"/>
                </a:lnTo>
                <a:lnTo>
                  <a:pt x="11457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42520" y="44280"/>
            <a:ext cx="212400" cy="228600"/>
          </a:xfrm>
          <a:custGeom>
            <a:avLst/>
            <a:gdLst>
              <a:gd name="textAreaLeft" fmla="*/ 13680 w 212400"/>
              <a:gd name="textAreaRight" fmla="*/ 198720 w 212400"/>
              <a:gd name="textAreaTop" fmla="*/ 13680 h 228600"/>
              <a:gd name="textAreaBottom" fmla="*/ 214920 h 228600"/>
            </a:gdLst>
            <a:ahLst/>
            <a:rect l="textAreaLeft" t="textAreaTop" r="textAreaRight" b="textAreaBottom"/>
            <a:pathLst>
              <a:path w="21600" h="23245">
                <a:moveTo>
                  <a:pt x="0" y="0"/>
                </a:moveTo>
                <a:lnTo>
                  <a:pt x="21600" y="0"/>
                </a:lnTo>
                <a:lnTo>
                  <a:pt x="21600" y="23245"/>
                </a:lnTo>
                <a:lnTo>
                  <a:pt x="0" y="23245"/>
                </a:lnTo>
                <a:close/>
              </a:path>
              <a:path fill="lightenLess" w="21600" h="232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45">
                <a:moveTo>
                  <a:pt x="21600" y="0"/>
                </a:moveTo>
                <a:lnTo>
                  <a:pt x="21600" y="23245"/>
                </a:lnTo>
                <a:lnTo>
                  <a:pt x="20200" y="21845"/>
                </a:lnTo>
                <a:lnTo>
                  <a:pt x="20200" y="1400"/>
                </a:lnTo>
                <a:close/>
              </a:path>
              <a:path fill="darkenLess" w="21600" h="23245">
                <a:moveTo>
                  <a:pt x="21600" y="23245"/>
                </a:moveTo>
                <a:lnTo>
                  <a:pt x="0" y="23245"/>
                </a:lnTo>
                <a:lnTo>
                  <a:pt x="1400" y="21845"/>
                </a:lnTo>
                <a:lnTo>
                  <a:pt x="20200" y="21845"/>
                </a:lnTo>
                <a:close/>
              </a:path>
              <a:path fill="lighten" w="21600" h="23245">
                <a:moveTo>
                  <a:pt x="0" y="232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image" Target="../media/image9.png"/><Relationship Id="rId5" Type="http://schemas.openxmlformats.org/officeDocument/2006/relationships/slide" Target="slide9.xml"/><Relationship Id="rId6" Type="http://schemas.openxmlformats.org/officeDocument/2006/relationships/image" Target="../media/image10.png"/><Relationship Id="rId7" Type="http://schemas.openxmlformats.org/officeDocument/2006/relationships/slide" Target="slide10.xml"/><Relationship Id="rId8" Type="http://schemas.openxmlformats.org/officeDocument/2006/relationships/image" Target="../media/image11.png"/><Relationship Id="rId9" Type="http://schemas.openxmlformats.org/officeDocument/2006/relationships/slide" Target="slide11.xml"/><Relationship Id="rId10" Type="http://schemas.openxmlformats.org/officeDocument/2006/relationships/image" Target="../media/image12.png"/><Relationship Id="rId11" Type="http://schemas.openxmlformats.org/officeDocument/2006/relationships/slide" Target="slide12.xml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7040" y="549360"/>
            <a:ext cx="86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écution graphique de la c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040" y="1719360"/>
            <a:ext cx="8636040" cy="116316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bjectif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’élève doit être capable 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Coter les formes et la position des usinages usuels en appliquant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règles d’exécution graphique de la co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80000" y="3716280"/>
            <a:ext cx="15523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32080" y="3213000"/>
            <a:ext cx="2635200" cy="3117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7040" y="54936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tation des cas usuels – Rayons identiques répéti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7040" y="2043720"/>
            <a:ext cx="8636040" cy="80676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 plusieurs rayons ou congés ont la même dimension, utiliser de préférence un nota (sorte de remarque générale) pour la co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tation des cas us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7040" y="2276640"/>
            <a:ext cx="8636040" cy="22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tation des cas us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7040" y="1484280"/>
            <a:ext cx="8636040" cy="3824280"/>
            <a:chOff x="257040" y="1484280"/>
            <a:chExt cx="8636040" cy="38242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57040" y="1484280"/>
              <a:ext cx="8636040" cy="33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700360" y="1484280"/>
              <a:ext cx="2158920" cy="335772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93080" y="1484280"/>
              <a:ext cx="1800000" cy="335772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14760" y="4940280"/>
              <a:ext cx="21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 préfé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4360" y="493416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 préfé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tation des cas us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49400" y="1123920"/>
            <a:ext cx="3378240" cy="2265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7040" y="3801600"/>
            <a:ext cx="4098960" cy="228852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 cela est nécessaire, indiquer clairement sur quelle ligne se trouve le centre de l’arc de cercle. Ceci est valable pour la cotation de tous les ray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 la valeur de la cote d’un rayon se déduit des valeurs d’autres cotes, mettre uniquement le symbole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3800520"/>
            <a:ext cx="4105080" cy="6426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longer les lignes de cotes au-delà de l’axe du plan de symét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02640" y="191628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demi-v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4600" y="19162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rous ob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ode de c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hachures 014x1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2646360" cy="2952720"/>
          </a:xfrm>
          <a:prstGeom prst="rect">
            <a:avLst/>
          </a:prstGeom>
          <a:ln w="0">
            <a:noFill/>
          </a:ln>
        </p:spPr>
      </p:pic>
      <p:pic>
        <p:nvPicPr>
          <p:cNvPr id="162" name="hachures 014x2" descr=""/>
          <p:cNvPicPr/>
          <p:nvPr/>
        </p:nvPicPr>
        <p:blipFill>
          <a:blip r:embed="rId2"/>
          <a:stretch/>
        </p:blipFill>
        <p:spPr>
          <a:xfrm>
            <a:off x="4768920" y="3357720"/>
            <a:ext cx="3908520" cy="204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250920" y="1278000"/>
          <a:ext cx="8642160" cy="47433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tation en sé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tation en parallè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es cotes sont tracées sur une même ligne sans se chevauc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es cotes sont disposées sur des lignes parallèles et elles partent d’une ligne d’attache commu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18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ègles de tra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faute à eviter 1" descr=""/>
          <p:cNvPicPr/>
          <p:nvPr/>
        </p:nvPicPr>
        <p:blipFill>
          <a:blip r:embed="rId1"/>
          <a:stretch/>
        </p:blipFill>
        <p:spPr>
          <a:xfrm>
            <a:off x="717480" y="1989000"/>
            <a:ext cx="2990880" cy="1000440"/>
          </a:xfrm>
          <a:prstGeom prst="rect">
            <a:avLst/>
          </a:prstGeom>
          <a:ln w="0">
            <a:noFill/>
          </a:ln>
        </p:spPr>
      </p:pic>
      <p:pic>
        <p:nvPicPr>
          <p:cNvPr id="166" name="faute à eviter 2" descr=""/>
          <p:cNvPicPr/>
          <p:nvPr/>
        </p:nvPicPr>
        <p:blipFill>
          <a:blip r:embed="rId2"/>
          <a:stretch/>
        </p:blipFill>
        <p:spPr>
          <a:xfrm>
            <a:off x="5364000" y="1978200"/>
            <a:ext cx="2838600" cy="1019160"/>
          </a:xfrm>
          <a:prstGeom prst="rect">
            <a:avLst/>
          </a:prstGeom>
          <a:ln w="0">
            <a:noFill/>
          </a:ln>
        </p:spPr>
      </p:pic>
      <p:pic>
        <p:nvPicPr>
          <p:cNvPr id="167" name="faute à eviter 3" descr=""/>
          <p:cNvPicPr/>
          <p:nvPr/>
        </p:nvPicPr>
        <p:blipFill>
          <a:blip r:embed="rId3"/>
          <a:stretch/>
        </p:blipFill>
        <p:spPr>
          <a:xfrm>
            <a:off x="611280" y="3695760"/>
            <a:ext cx="3295440" cy="1028520"/>
          </a:xfrm>
          <a:prstGeom prst="rect">
            <a:avLst/>
          </a:prstGeom>
          <a:ln w="0">
            <a:noFill/>
          </a:ln>
        </p:spPr>
      </p:pic>
      <p:pic>
        <p:nvPicPr>
          <p:cNvPr id="168" name="faute à eviter 4" descr=""/>
          <p:cNvPicPr/>
          <p:nvPr/>
        </p:nvPicPr>
        <p:blipFill>
          <a:blip r:embed="rId4"/>
          <a:stretch/>
        </p:blipFill>
        <p:spPr>
          <a:xfrm>
            <a:off x="5187960" y="3676680"/>
            <a:ext cx="3200400" cy="1047600"/>
          </a:xfrm>
          <a:prstGeom prst="rect">
            <a:avLst/>
          </a:prstGeom>
          <a:ln w="0">
            <a:noFill/>
          </a:ln>
        </p:spPr>
      </p:pic>
      <p:pic>
        <p:nvPicPr>
          <p:cNvPr id="169" name="faute à eviter 5" descr=""/>
          <p:cNvPicPr/>
          <p:nvPr/>
        </p:nvPicPr>
        <p:blipFill>
          <a:blip r:embed="rId5"/>
          <a:stretch/>
        </p:blipFill>
        <p:spPr>
          <a:xfrm>
            <a:off x="839880" y="5373720"/>
            <a:ext cx="2724120" cy="117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-1836720" y="1868400"/>
            <a:ext cx="3144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836720" y="1868400"/>
            <a:ext cx="3144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4160" y="5327640"/>
            <a:ext cx="43178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4160" y="4809960"/>
            <a:ext cx="4317840" cy="5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Times New Roman"/>
              </a:rPr>
              <a:t>Les cotations surcharg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584520"/>
            <a:ext cx="4321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4160" y="3584520"/>
            <a:ext cx="43178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068640"/>
            <a:ext cx="4321080" cy="515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Times New Roman"/>
              </a:rPr>
              <a:t>Cotation surabond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160" y="3068640"/>
            <a:ext cx="4317840" cy="515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Times New Roman"/>
              </a:rPr>
              <a:t>Valeur de la cote coupée par un trait de des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68400"/>
            <a:ext cx="43210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4160" y="1868400"/>
            <a:ext cx="43178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39760"/>
            <a:ext cx="4321080" cy="728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Times New Roman"/>
              </a:rPr>
              <a:t>Une ligne de cote ne peut être coupée par une autre ligne (les lignes d’attache peuvent se couper entre ell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4160" y="1139760"/>
            <a:ext cx="4317840" cy="728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Times New Roman"/>
              </a:rPr>
              <a:t>Ligne de cote tracée dans le prolongement des traits de des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4160" y="1868400"/>
            <a:ext cx="863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1139760"/>
            <a:ext cx="0" cy="367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4160" y="3584520"/>
            <a:ext cx="863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4160" y="5327640"/>
            <a:ext cx="431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6607080"/>
            <a:ext cx="43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893080" y="480996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893080" y="5327640"/>
            <a:ext cx="0" cy="1279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4160" y="6607080"/>
            <a:ext cx="43178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4160" y="4809960"/>
            <a:ext cx="863892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60" y="1139760"/>
            <a:ext cx="863892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160" y="1139760"/>
            <a:ext cx="0" cy="5467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4160" y="3068640"/>
            <a:ext cx="863892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809960"/>
            <a:ext cx="0" cy="1797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893080" y="1139760"/>
            <a:ext cx="0" cy="367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ercice d’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7480" y="2181240"/>
            <a:ext cx="343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uide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248360" cy="3263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57040" y="1268280"/>
            <a:ext cx="8636040" cy="187596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 donne le dessin en perspective d’un guide, avec sa c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 demande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De dessiner cette pièce, sur le document DR1, dans les vues de face, de dessus et de gauc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Faire la cotation de ce dess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870520" y="616572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630680" y="2814480"/>
            <a:ext cx="4405320" cy="2990880"/>
            <a:chOff x="4630680" y="2814480"/>
            <a:chExt cx="4405320" cy="2990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4630680" y="2814480"/>
              <a:ext cx="440532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2720" y="4541760"/>
              <a:ext cx="216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bjet mis en plan, mais incomplet pour la réal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50920" y="2989440"/>
            <a:ext cx="2442960" cy="2601720"/>
            <a:chOff x="250920" y="2989440"/>
            <a:chExt cx="2442960" cy="260172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50920" y="2989440"/>
              <a:ext cx="2442960" cy="22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3720" y="522288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bjet à réali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7040" y="1301400"/>
            <a:ext cx="8636040" cy="119124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Pour qu’un objet soit réalisable à partir d’un dessin il faut à la fois une description graphique complète et précise des formes et contours ainsi qu’une description détaillée et chiffrée des dimensions essentielles, c’est le rôle de la co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3933720"/>
            <a:ext cx="2028960" cy="647640"/>
          </a:xfrm>
          <a:prstGeom prst="rightArrow">
            <a:avLst>
              <a:gd name="adj1" fmla="val 50000"/>
              <a:gd name="adj2" fmla="val 78321"/>
            </a:avLst>
          </a:prstGeom>
          <a:solidFill>
            <a:srgbClr val="8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1840" y="47322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ph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4920" y="2741760"/>
            <a:ext cx="4405320" cy="2990880"/>
            <a:chOff x="34920" y="2741760"/>
            <a:chExt cx="4405320" cy="299088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34920" y="2741760"/>
              <a:ext cx="440532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136600" y="446868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scription graph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605480" y="2725560"/>
            <a:ext cx="4432320" cy="3007080"/>
            <a:chOff x="4605480" y="2725560"/>
            <a:chExt cx="4432320" cy="300708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4605480" y="2725560"/>
              <a:ext cx="4430520" cy="300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877080" y="4470480"/>
              <a:ext cx="21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scription détaillée réalisable à l’ate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7040" y="1301400"/>
            <a:ext cx="8636040" cy="119124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Pour qu’un objet soit réalisable à partir d’un dessin il faut à la fois une description graphique complète et précise des formes et contours ainsi qu’une description détaillée et chiffrée des dimensions essentielles, c’est le rôle de la co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78160" y="4041720"/>
            <a:ext cx="524160" cy="216000"/>
          </a:xfrm>
          <a:prstGeom prst="rightArrow">
            <a:avLst>
              <a:gd name="adj1" fmla="val 50000"/>
              <a:gd name="adj2" fmla="val 60667"/>
            </a:avLst>
          </a:prstGeom>
          <a:solidFill>
            <a:srgbClr val="8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6000" y="3125880"/>
            <a:ext cx="8677080" cy="2679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énéralités et dé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7040" y="1287000"/>
            <a:ext cx="8636040" cy="146556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e cote se compose notamment d’un texte positionn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 Au milieu et au dessus de la ligne de cote pour les cotes Horizontal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 Au milieu, sur le côté gauche et de bas en haut pour les cotes Verticales.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6093000"/>
            <a:ext cx="1008000" cy="576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Piè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à co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32600" y="58420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04080" y="5845320"/>
            <a:ext cx="1022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996160" y="58399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59280" y="6073920"/>
            <a:ext cx="204480" cy="604800"/>
            <a:chOff x="5759280" y="6073920"/>
            <a:chExt cx="204480" cy="604800"/>
          </a:xfrm>
        </p:grpSpPr>
        <p:sp>
          <p:nvSpPr>
            <p:cNvPr id="72" name=""/>
            <p:cNvSpPr/>
            <p:nvPr/>
          </p:nvSpPr>
          <p:spPr>
            <a:xfrm flipH="1">
              <a:off x="5760360" y="6073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763960" y="6077880"/>
              <a:ext cx="0" cy="5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759280" y="6678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994360" y="56008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5349960" y="6238800"/>
            <a:ext cx="60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6000" y="3125880"/>
            <a:ext cx="8677080" cy="2679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énéralités et dé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7040" y="1165320"/>
            <a:ext cx="8636040" cy="1739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La dimension indiquée est la dimension réelle de l’objet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Les unités utilisées 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longueurs sont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en m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l n’est pas indiqué sur le dessin), les angles sont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en degr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marque : Si la dimension est suivie d’une tolérance on parlera de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te tolérancé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énéralités et dé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7040" y="1282320"/>
            <a:ext cx="8636040" cy="119124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ypes de cot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Cote de forme :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Précise les dimensions de la forme à obteni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Cote de position :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Indique la position des formes à obtenir par rapport a une réfé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2805120"/>
            <a:ext cx="33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tes de form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443700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tes de positio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74840" y="2708280"/>
            <a:ext cx="3736800" cy="4068720"/>
            <a:chOff x="474840" y="2708280"/>
            <a:chExt cx="3736800" cy="40687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474840" y="2708280"/>
              <a:ext cx="3736800" cy="24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19360" y="5170320"/>
              <a:ext cx="1268280" cy="160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1359000" y="2854440"/>
            <a:ext cx="360360" cy="358560"/>
          </a:xfrm>
          <a:prstGeom prst="ellipse">
            <a:avLst/>
          </a:prstGeom>
          <a:solidFill>
            <a:srgbClr val="333399">
              <a:alpha val="2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3862440"/>
            <a:ext cx="360360" cy="358560"/>
          </a:xfrm>
          <a:prstGeom prst="ellipse">
            <a:avLst/>
          </a:prstGeom>
          <a:solidFill>
            <a:srgbClr val="333399">
              <a:alpha val="2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4726080"/>
            <a:ext cx="360360" cy="358560"/>
          </a:xfrm>
          <a:prstGeom prst="ellipse">
            <a:avLst/>
          </a:prstGeom>
          <a:solidFill>
            <a:srgbClr val="333399">
              <a:alpha val="2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2852640"/>
            <a:ext cx="360360" cy="358920"/>
          </a:xfrm>
          <a:prstGeom prst="ellipse">
            <a:avLst/>
          </a:prstGeom>
          <a:solidFill>
            <a:srgbClr val="333399">
              <a:alpha val="2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4726080"/>
            <a:ext cx="360360" cy="358560"/>
          </a:xfrm>
          <a:prstGeom prst="ellipse">
            <a:avLst/>
          </a:prstGeom>
          <a:solidFill>
            <a:srgbClr val="333399">
              <a:alpha val="2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718080"/>
            <a:ext cx="360360" cy="358560"/>
          </a:xfrm>
          <a:prstGeom prst="ellipse">
            <a:avLst/>
          </a:prstGeom>
          <a:solidFill>
            <a:srgbClr val="333399">
              <a:alpha val="2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4726080"/>
            <a:ext cx="360360" cy="358560"/>
          </a:xfrm>
          <a:prstGeom prst="ellipse">
            <a:avLst/>
          </a:prstGeom>
          <a:solidFill>
            <a:srgbClr val="ff0000">
              <a:alpha val="2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4221000"/>
            <a:ext cx="360360" cy="358920"/>
          </a:xfrm>
          <a:prstGeom prst="ellipse">
            <a:avLst/>
          </a:prstGeom>
          <a:solidFill>
            <a:srgbClr val="ff0000">
              <a:alpha val="2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638440"/>
            <a:ext cx="360360" cy="358920"/>
          </a:xfrm>
          <a:prstGeom prst="ellipse">
            <a:avLst/>
          </a:prstGeom>
          <a:solidFill>
            <a:srgbClr val="ff0000">
              <a:alpha val="2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14440" y="32097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{45, 78, 24, 23, 32, 5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66120" y="486252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{9, 30, 5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tation des cas us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64400" y="4487760"/>
            <a:ext cx="2236680" cy="1500120"/>
          </a:xfrm>
          <a:prstGeom prst="rect">
            <a:avLst/>
          </a:prstGeom>
          <a:ln w="38160">
            <a:solidFill>
              <a:srgbClr val="333399"/>
            </a:solidFill>
            <a:prstDash val="dash"/>
            <a:miter/>
          </a:ln>
        </p:spPr>
      </p:pic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1268280"/>
            <a:ext cx="4449600" cy="1206720"/>
          </a:xfrm>
          <a:prstGeom prst="rect">
            <a:avLst/>
          </a:prstGeom>
          <a:ln w="38160">
            <a:solidFill>
              <a:srgbClr val="333399"/>
            </a:solidFill>
            <a:prstDash val="dash"/>
            <a:miter/>
          </a:ln>
        </p:spPr>
      </p:pic>
      <p:pic>
        <p:nvPicPr>
          <p:cNvPr id="10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197320" y="1341360"/>
            <a:ext cx="3480120" cy="1036800"/>
          </a:xfrm>
          <a:prstGeom prst="rect">
            <a:avLst/>
          </a:prstGeom>
          <a:ln w="38160">
            <a:solidFill>
              <a:srgbClr val="333399"/>
            </a:solidFill>
            <a:prstDash val="dash"/>
            <a:miter/>
          </a:ln>
        </p:spPr>
      </p:pic>
      <p:pic>
        <p:nvPicPr>
          <p:cNvPr id="10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2781360"/>
            <a:ext cx="1133640" cy="1341360"/>
          </a:xfrm>
          <a:prstGeom prst="rect">
            <a:avLst/>
          </a:prstGeom>
          <a:ln w="38160">
            <a:solidFill>
              <a:srgbClr val="333399"/>
            </a:solidFill>
            <a:prstDash val="dash"/>
            <a:miter/>
          </a:ln>
        </p:spPr>
      </p:pic>
      <p:pic>
        <p:nvPicPr>
          <p:cNvPr id="10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29040" y="2708280"/>
            <a:ext cx="5864040" cy="1541520"/>
          </a:xfrm>
          <a:prstGeom prst="rect">
            <a:avLst/>
          </a:prstGeom>
          <a:ln w="38160">
            <a:solidFill>
              <a:srgbClr val="333399"/>
            </a:solidFill>
            <a:prstDash val="dash"/>
            <a:miter/>
          </a:ln>
        </p:spPr>
      </p:pic>
      <p:pic>
        <p:nvPicPr>
          <p:cNvPr id="10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50920" y="4487760"/>
            <a:ext cx="4498920" cy="1749600"/>
          </a:xfrm>
          <a:prstGeom prst="rect">
            <a:avLst/>
          </a:prstGeom>
          <a:ln w="38160">
            <a:solidFill>
              <a:srgbClr val="333399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tation des cas usuels – Les diamè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2257560"/>
            <a:ext cx="8570880" cy="2323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1989000"/>
            <a:ext cx="5257800" cy="2880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1989000"/>
            <a:ext cx="3241440" cy="2880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5440" y="1484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tation à préfé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03160" y="1484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tat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6720" y="5373000"/>
            <a:ext cx="78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 dimension d’un diamètre est précédée du symbole normalisé 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tation des cas usuels – Les chanfr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2341440"/>
            <a:ext cx="727416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3:28:11Z</dcterms:created>
  <dc:creator>Jordi et Mariejo</dc:creator>
  <dc:description/>
  <dc:language>en-US</dc:language>
  <cp:lastModifiedBy> </cp:lastModifiedBy>
  <dcterms:modified xsi:type="dcterms:W3CDTF">2007-05-20T11:26:02Z</dcterms:modified>
  <cp:revision>788</cp:revision>
  <dc:subject/>
  <dc:title>Diapositive 1</dc:title>
</cp:coreProperties>
</file>