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11.png" ContentType="image/png"/>
  <Override PartName="/ppt/media/image6.png" ContentType="image/png"/>
  <Override PartName="/ppt/media/image5.wmf" ContentType="image/x-wmf"/>
  <Override PartName="/ppt/media/image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jpeg" ContentType="image/jpeg"/>
  <Override PartName="/ppt/media/image15.wmf" ContentType="image/x-wmf"/>
  <Override PartName="/ppt/media/image1.png" ContentType="image/png"/>
  <Override PartName="/ppt/media/image24.png" ContentType="image/png"/>
  <Override PartName="/ppt/media/image25.wmf" ContentType="image/x-wmf"/>
  <Override PartName="/ppt/media/image2.jpeg" ContentType="image/jpeg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419E-58A4-43DE-A65D-79AA850EC3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54B2-F1F6-498C-AE34-48ABF4260F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ffff"/>
                </a:solidFill>
                <a:latin typeface="Comic Sans MS"/>
              </a:rPr>
              <a:t>Construction mécanique / </a:t>
            </a:r>
            <a:r>
              <a:rPr b="1" i="1" lang="fr-FR" sz="1400" spc="-1" strike="noStrike">
                <a:solidFill>
                  <a:srgbClr val="000000"/>
                </a:solidFill>
                <a:latin typeface="Comic Sans MS"/>
              </a:rPr>
              <a:t>TP Boite de vitesses – Transmission de puiss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8">
            <a:hlinkClick r:id="" action="ppaction://hlinkshowjump?jump=endshow"/>
          </p:cNvPr>
          <p:cNvSpPr/>
          <p:nvPr/>
        </p:nvSpPr>
        <p:spPr>
          <a:xfrm>
            <a:off x="8854920" y="44280"/>
            <a:ext cx="214560" cy="228600"/>
          </a:xfrm>
          <a:custGeom>
            <a:avLst/>
            <a:gdLst>
              <a:gd name="textAreaLeft" fmla="*/ 13680 w 214560"/>
              <a:gd name="textAreaRight" fmla="*/ 200880 w 214560"/>
              <a:gd name="textAreaTop" fmla="*/ 13680 h 228600"/>
              <a:gd name="textAreaBottom" fmla="*/ 214920 h 228600"/>
            </a:gdLst>
            <a:ahLst/>
            <a:rect l="textAreaLeft" t="textAreaTop" r="textAreaRight" b="textAreaBottom"/>
            <a:pathLst>
              <a:path w="21600" h="23011">
                <a:moveTo>
                  <a:pt x="0" y="0"/>
                </a:moveTo>
                <a:lnTo>
                  <a:pt x="21600" y="0"/>
                </a:lnTo>
                <a:lnTo>
                  <a:pt x="21600" y="23011"/>
                </a:lnTo>
                <a:lnTo>
                  <a:pt x="0" y="23011"/>
                </a:lnTo>
                <a:close/>
              </a:path>
              <a:path fill="lightenLess" w="21600" h="230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1">
                <a:moveTo>
                  <a:pt x="21600" y="0"/>
                </a:moveTo>
                <a:lnTo>
                  <a:pt x="21600" y="23011"/>
                </a:lnTo>
                <a:lnTo>
                  <a:pt x="20200" y="21611"/>
                </a:lnTo>
                <a:lnTo>
                  <a:pt x="20200" y="1400"/>
                </a:lnTo>
                <a:close/>
              </a:path>
              <a:path fill="darkenLess" w="21600" h="23011">
                <a:moveTo>
                  <a:pt x="21600" y="23011"/>
                </a:moveTo>
                <a:lnTo>
                  <a:pt x="0" y="23011"/>
                </a:lnTo>
                <a:lnTo>
                  <a:pt x="1400" y="21611"/>
                </a:lnTo>
                <a:lnTo>
                  <a:pt x="20200" y="21611"/>
                </a:lnTo>
                <a:close/>
              </a:path>
              <a:path fill="lighten" w="21600" h="23011">
                <a:moveTo>
                  <a:pt x="0" y="230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9">
            <a:hlinkClick r:id="rId2" action="ppaction://hlinksldjump"/>
          </p:cNvPr>
          <p:cNvSpPr/>
          <p:nvPr/>
        </p:nvSpPr>
        <p:spPr>
          <a:xfrm>
            <a:off x="8380440" y="44280"/>
            <a:ext cx="262080" cy="228600"/>
          </a:xfrm>
          <a:custGeom>
            <a:avLst/>
            <a:gdLst>
              <a:gd name="textAreaLeft" fmla="*/ 14760 w 262080"/>
              <a:gd name="textAreaRight" fmla="*/ 247320 w 262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4758" h="21600">
                <a:moveTo>
                  <a:pt x="0" y="0"/>
                </a:moveTo>
                <a:lnTo>
                  <a:pt x="24758" y="0"/>
                </a:lnTo>
                <a:lnTo>
                  <a:pt x="24758" y="21600"/>
                </a:lnTo>
                <a:lnTo>
                  <a:pt x="0" y="21600"/>
                </a:lnTo>
                <a:close/>
              </a:path>
              <a:path fill="lightenLess" w="24758" h="21600">
                <a:moveTo>
                  <a:pt x="0" y="0"/>
                </a:moveTo>
                <a:lnTo>
                  <a:pt x="24758" y="0"/>
                </a:lnTo>
                <a:lnTo>
                  <a:pt x="23358" y="1400"/>
                </a:lnTo>
                <a:lnTo>
                  <a:pt x="1400" y="1400"/>
                </a:lnTo>
                <a:close/>
              </a:path>
              <a:path fill="darken" w="24758" h="21600">
                <a:moveTo>
                  <a:pt x="24758" y="0"/>
                </a:moveTo>
                <a:lnTo>
                  <a:pt x="24758" y="21600"/>
                </a:lnTo>
                <a:lnTo>
                  <a:pt x="23358" y="20200"/>
                </a:lnTo>
                <a:lnTo>
                  <a:pt x="23358" y="1400"/>
                </a:lnTo>
                <a:close/>
              </a:path>
              <a:path fill="darkenLess" w="24758" h="21600">
                <a:moveTo>
                  <a:pt x="24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58" y="20200"/>
                </a:lnTo>
                <a:close/>
              </a:path>
              <a:path fill="lighten" w="24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58" h="21600">
                <a:moveTo>
                  <a:pt x="12379" y="3837"/>
                </a:moveTo>
                <a:lnTo>
                  <a:pt x="14956" y="6448"/>
                </a:lnTo>
                <a:lnTo>
                  <a:pt x="14956" y="4707"/>
                </a:lnTo>
                <a:lnTo>
                  <a:pt x="16731" y="4707"/>
                </a:lnTo>
                <a:lnTo>
                  <a:pt x="16731" y="8224"/>
                </a:lnTo>
                <a:lnTo>
                  <a:pt x="19342" y="10800"/>
                </a:lnTo>
                <a:lnTo>
                  <a:pt x="17689" y="10800"/>
                </a:lnTo>
                <a:lnTo>
                  <a:pt x="17689" y="17989"/>
                </a:lnTo>
                <a:lnTo>
                  <a:pt x="7070" y="17989"/>
                </a:lnTo>
                <a:lnTo>
                  <a:pt x="7070" y="10800"/>
                </a:lnTo>
                <a:lnTo>
                  <a:pt x="5416" y="10800"/>
                </a:lnTo>
                <a:close/>
              </a:path>
              <a:path fill="darkenLess" w="24758" h="21600">
                <a:moveTo>
                  <a:pt x="14956" y="6448"/>
                </a:moveTo>
                <a:lnTo>
                  <a:pt x="14956" y="4707"/>
                </a:lnTo>
                <a:lnTo>
                  <a:pt x="16731" y="4707"/>
                </a:lnTo>
                <a:lnTo>
                  <a:pt x="16731" y="8224"/>
                </a:lnTo>
                <a:close/>
              </a:path>
              <a:path fill="darkenLess" w="24758" h="21600">
                <a:moveTo>
                  <a:pt x="11457" y="14299"/>
                </a:moveTo>
                <a:lnTo>
                  <a:pt x="13302" y="14299"/>
                </a:lnTo>
                <a:lnTo>
                  <a:pt x="13302" y="17989"/>
                </a:lnTo>
                <a:lnTo>
                  <a:pt x="17689" y="17989"/>
                </a:lnTo>
                <a:lnTo>
                  <a:pt x="17689" y="10800"/>
                </a:lnTo>
                <a:lnTo>
                  <a:pt x="7070" y="10800"/>
                </a:lnTo>
                <a:lnTo>
                  <a:pt x="7070" y="17989"/>
                </a:lnTo>
                <a:lnTo>
                  <a:pt x="11457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2"/>
          <p:cNvSpPr/>
          <p:nvPr/>
        </p:nvSpPr>
        <p:spPr>
          <a:xfrm>
            <a:off x="8642520" y="44280"/>
            <a:ext cx="212400" cy="228600"/>
          </a:xfrm>
          <a:custGeom>
            <a:avLst/>
            <a:gdLst>
              <a:gd name="textAreaLeft" fmla="*/ 13680 w 212400"/>
              <a:gd name="textAreaRight" fmla="*/ 198720 w 212400"/>
              <a:gd name="textAreaTop" fmla="*/ 13680 h 228600"/>
              <a:gd name="textAreaBottom" fmla="*/ 214920 h 228600"/>
            </a:gdLst>
            <a:ahLst/>
            <a:rect l="textAreaLeft" t="textAreaTop" r="textAreaRight" b="textAreaBottom"/>
            <a:pathLst>
              <a:path w="21600" h="23245">
                <a:moveTo>
                  <a:pt x="0" y="0"/>
                </a:moveTo>
                <a:lnTo>
                  <a:pt x="21600" y="0"/>
                </a:lnTo>
                <a:lnTo>
                  <a:pt x="21600" y="23245"/>
                </a:lnTo>
                <a:lnTo>
                  <a:pt x="0" y="23245"/>
                </a:lnTo>
                <a:close/>
              </a:path>
              <a:path fill="lightenLess" w="21600" h="232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45">
                <a:moveTo>
                  <a:pt x="21600" y="0"/>
                </a:moveTo>
                <a:lnTo>
                  <a:pt x="21600" y="23245"/>
                </a:lnTo>
                <a:lnTo>
                  <a:pt x="20200" y="21845"/>
                </a:lnTo>
                <a:lnTo>
                  <a:pt x="20200" y="1400"/>
                </a:lnTo>
                <a:close/>
              </a:path>
              <a:path fill="darkenLess" w="21600" h="23245">
                <a:moveTo>
                  <a:pt x="21600" y="23245"/>
                </a:moveTo>
                <a:lnTo>
                  <a:pt x="0" y="23245"/>
                </a:lnTo>
                <a:lnTo>
                  <a:pt x="1400" y="21845"/>
                </a:lnTo>
                <a:lnTo>
                  <a:pt x="20200" y="21845"/>
                </a:lnTo>
                <a:close/>
              </a:path>
              <a:path fill="lighten" w="21600" h="23245">
                <a:moveTo>
                  <a:pt x="0" y="232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4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969696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2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10.jpeg"/><Relationship Id="rId8" Type="http://schemas.openxmlformats.org/officeDocument/2006/relationships/image" Target="../media/image14.jpeg"/><Relationship Id="rId9" Type="http://schemas.openxmlformats.org/officeDocument/2006/relationships/image" Target="../media/image17.jpeg"/><Relationship Id="rId10" Type="http://schemas.openxmlformats.org/officeDocument/2006/relationships/image" Target="../media/image6.png"/><Relationship Id="rId11" Type="http://schemas.openxmlformats.org/officeDocument/2006/relationships/image" Target="../media/image14.jpeg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image" Target="../media/image8.png"/><Relationship Id="rId6" Type="http://schemas.openxmlformats.org/officeDocument/2006/relationships/image" Target="../media/image14.jpeg"/><Relationship Id="rId7" Type="http://schemas.openxmlformats.org/officeDocument/2006/relationships/image" Target="../media/image17.jpeg"/><Relationship Id="rId8" Type="http://schemas.openxmlformats.org/officeDocument/2006/relationships/image" Target="../media/image8.png"/><Relationship Id="rId9" Type="http://schemas.openxmlformats.org/officeDocument/2006/relationships/image" Target="../media/image10.jpeg"/><Relationship Id="rId10" Type="http://schemas.openxmlformats.org/officeDocument/2006/relationships/image" Target="../media/image14.jpeg"/><Relationship Id="rId11" Type="http://schemas.openxmlformats.org/officeDocument/2006/relationships/image" Target="../media/image17.jpe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8.png"/><Relationship Id="rId6" Type="http://schemas.openxmlformats.org/officeDocument/2006/relationships/image" Target="../media/image14.jpeg"/><Relationship Id="rId7" Type="http://schemas.openxmlformats.org/officeDocument/2006/relationships/image" Target="../media/image17.jpeg"/><Relationship Id="rId8" Type="http://schemas.openxmlformats.org/officeDocument/2006/relationships/image" Target="../media/image8.png"/><Relationship Id="rId9" Type="http://schemas.openxmlformats.org/officeDocument/2006/relationships/image" Target="../media/image10.jpeg"/><Relationship Id="rId10" Type="http://schemas.openxmlformats.org/officeDocument/2006/relationships/image" Target="../media/image14.jpeg"/><Relationship Id="rId11" Type="http://schemas.openxmlformats.org/officeDocument/2006/relationships/image" Target="../media/image17.jpe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8.png"/><Relationship Id="rId6" Type="http://schemas.openxmlformats.org/officeDocument/2006/relationships/image" Target="../media/image14.jpeg"/><Relationship Id="rId7" Type="http://schemas.openxmlformats.org/officeDocument/2006/relationships/image" Target="../media/image17.jpeg"/><Relationship Id="rId8" Type="http://schemas.openxmlformats.org/officeDocument/2006/relationships/image" Target="../media/image8.png"/><Relationship Id="rId9" Type="http://schemas.openxmlformats.org/officeDocument/2006/relationships/image" Target="../media/image10.jpeg"/><Relationship Id="rId10" Type="http://schemas.openxmlformats.org/officeDocument/2006/relationships/image" Target="../media/image14.jpeg"/><Relationship Id="rId11" Type="http://schemas.openxmlformats.org/officeDocument/2006/relationships/image" Target="../media/image17.jpe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image" Target="../media/image8.png"/><Relationship Id="rId6" Type="http://schemas.openxmlformats.org/officeDocument/2006/relationships/image" Target="../media/image14.jpeg"/><Relationship Id="rId7" Type="http://schemas.openxmlformats.org/officeDocument/2006/relationships/image" Target="../media/image17.jpeg"/><Relationship Id="rId8" Type="http://schemas.openxmlformats.org/officeDocument/2006/relationships/image" Target="../media/image8.png"/><Relationship Id="rId9" Type="http://schemas.openxmlformats.org/officeDocument/2006/relationships/image" Target="../media/image10.jpeg"/><Relationship Id="rId10" Type="http://schemas.openxmlformats.org/officeDocument/2006/relationships/image" Target="../media/image14.jpeg"/><Relationship Id="rId11" Type="http://schemas.openxmlformats.org/officeDocument/2006/relationships/image" Target="../media/image17.jpe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image" Target="../media/image8.png"/><Relationship Id="rId6" Type="http://schemas.openxmlformats.org/officeDocument/2006/relationships/image" Target="../media/image14.jpeg"/><Relationship Id="rId7" Type="http://schemas.openxmlformats.org/officeDocument/2006/relationships/image" Target="../media/image17.jpeg"/><Relationship Id="rId8" Type="http://schemas.openxmlformats.org/officeDocument/2006/relationships/image" Target="../media/image8.png"/><Relationship Id="rId9" Type="http://schemas.openxmlformats.org/officeDocument/2006/relationships/image" Target="../media/image10.jpeg"/><Relationship Id="rId10" Type="http://schemas.openxmlformats.org/officeDocument/2006/relationships/image" Target="../media/image14.jpeg"/><Relationship Id="rId11" Type="http://schemas.openxmlformats.org/officeDocument/2006/relationships/image" Target="../media/image17.jpe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9"/>
          <p:cNvGrpSpPr/>
          <p:nvPr/>
        </p:nvGrpSpPr>
        <p:grpSpPr>
          <a:xfrm>
            <a:off x="663480" y="658800"/>
            <a:ext cx="3132360" cy="3303720"/>
            <a:chOff x="663480" y="658800"/>
            <a:chExt cx="3132360" cy="3303720"/>
          </a:xfrm>
        </p:grpSpPr>
        <p:pic>
          <p:nvPicPr>
            <p:cNvPr id="48" name="Picture 10" descr="306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663480" y="658800"/>
              <a:ext cx="3132360" cy="181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1" descr="advantime_bdv_s"/>
            <p:cNvPicPr/>
            <p:nvPr/>
          </p:nvPicPr>
          <p:blipFill>
            <a:blip r:embed="rId2"/>
            <a:stretch/>
          </p:blipFill>
          <p:spPr>
            <a:xfrm>
              <a:off x="746640" y="2626200"/>
              <a:ext cx="1532160" cy="13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AutoShape 12"/>
            <p:cNvSpPr/>
            <p:nvPr/>
          </p:nvSpPr>
          <p:spPr>
            <a:xfrm rot="10800000">
              <a:off x="2138400" y="2159280"/>
              <a:ext cx="839160" cy="1027080"/>
            </a:xfrm>
            <a:prstGeom prst="pi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dce6f2"/>
                </a:gs>
              </a:gsLst>
              <a:lin ang="189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WordArt 13"/>
            <p:cNvSpPr txBox="1"/>
            <p:nvPr/>
          </p:nvSpPr>
          <p:spPr>
            <a:xfrm>
              <a:off x="2538360" y="3202920"/>
              <a:ext cx="970920" cy="55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Verdana"/>
                </a:rPr>
                <a:t>Système</a:t>
              </a:r>
              <a:endPara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erdana"/>
                <a:ea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Verdana"/>
                </a:rPr>
                <a:t>étudié</a:t>
              </a:r>
              <a:endPara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erdana"/>
                <a:ea typeface="Verdana"/>
              </a:endParaRPr>
            </a:p>
          </p:txBody>
        </p:sp>
      </p:grpSp>
      <p:sp>
        <p:nvSpPr>
          <p:cNvPr id="5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4"/>
          <p:cNvGraphicFramePr/>
          <p:nvPr/>
        </p:nvGraphicFramePr>
        <p:xfrm>
          <a:off x="217440" y="4151160"/>
          <a:ext cx="8664480" cy="256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440" y="4151160"/>
                    <a:ext cx="866448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040280" y="1275480"/>
            <a:ext cx="4775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ous étudions une boîte de vitesses de Peugeot 306 Turbo Dies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n désire déterminer les différents rapports de transmission de la boîte afin de savoir, pour chacun de ces rapports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 quelle vitesse peut rouler la voiture sa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le moteur soit en sur-régime 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Quelle est la meilleure vitesse du véhicu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our passer au rapport supérie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962520" y="549360"/>
            <a:ext cx="49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Probléma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1"/>
          <a:stretch/>
        </p:blipFill>
        <p:spPr>
          <a:xfrm>
            <a:off x="1517760" y="800280"/>
            <a:ext cx="6102360" cy="6057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243000" y="35244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termination des rapports de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592200" y="819000"/>
            <a:ext cx="7905600" cy="6039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243000" y="35244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termination de la vitesse maxi du véhi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Object 1"/>
          <p:cNvGraphicFramePr/>
          <p:nvPr/>
        </p:nvGraphicFramePr>
        <p:xfrm>
          <a:off x="528480" y="2057400"/>
          <a:ext cx="3535560" cy="31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057400"/>
                    <a:ext cx="3535560" cy="31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3"/>
          <p:cNvSpPr/>
          <p:nvPr/>
        </p:nvSpPr>
        <p:spPr>
          <a:xfrm>
            <a:off x="243000" y="549360"/>
            <a:ext cx="863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termination de la vitesse optimale pour le changement de vit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0" y="16542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laboration des courbes de vit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4572000" y="165744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ptimisation des changements de vitesse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2"/>
          <p:cNvGraphicFramePr/>
          <p:nvPr/>
        </p:nvGraphicFramePr>
        <p:xfrm>
          <a:off x="5086440" y="2057400"/>
          <a:ext cx="3535200" cy="31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86440" y="2057400"/>
                    <a:ext cx="3535200" cy="31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1"/>
          <p:cNvGraphicFramePr/>
          <p:nvPr/>
        </p:nvGraphicFramePr>
        <p:xfrm>
          <a:off x="270000" y="1363680"/>
          <a:ext cx="860256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1363680"/>
                    <a:ext cx="860256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3"/>
          <p:cNvSpPr/>
          <p:nvPr/>
        </p:nvSpPr>
        <p:spPr>
          <a:xfrm>
            <a:off x="243000" y="549360"/>
            <a:ext cx="86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rchitecture de la boite de vit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Différentiel3"/>
          <p:cNvPicPr/>
          <p:nvPr/>
        </p:nvPicPr>
        <p:blipFill>
          <a:blip r:embed="rId1"/>
          <a:stretch/>
        </p:blipFill>
        <p:spPr>
          <a:xfrm>
            <a:off x="5651640" y="6251400"/>
            <a:ext cx="622080" cy="5302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1"/>
          <p:cNvGraphicFramePr/>
          <p:nvPr/>
        </p:nvGraphicFramePr>
        <p:xfrm>
          <a:off x="693720" y="2335320"/>
          <a:ext cx="7726320" cy="42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720" y="2335320"/>
                    <a:ext cx="772632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advantime_bdv_s"/>
          <p:cNvPicPr/>
          <p:nvPr/>
        </p:nvPicPr>
        <p:blipFill>
          <a:blip r:embed="rId4"/>
          <a:stretch/>
        </p:blipFill>
        <p:spPr>
          <a:xfrm>
            <a:off x="92160" y="396720"/>
            <a:ext cx="2100240" cy="18320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43000" y="549360"/>
            <a:ext cx="863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héma cinémat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e la boite de vit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Image1"/>
          <p:cNvPicPr/>
          <p:nvPr/>
        </p:nvPicPr>
        <p:blipFill>
          <a:blip r:embed="rId5"/>
          <a:stretch/>
        </p:blipFill>
        <p:spPr>
          <a:xfrm>
            <a:off x="7581960" y="1523880"/>
            <a:ext cx="1312920" cy="1327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Embrayage disque et plateau'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7542360" y="2909880"/>
            <a:ext cx="1390680" cy="682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advantime_bdv_s"/>
          <p:cNvPicPr/>
          <p:nvPr/>
        </p:nvPicPr>
        <p:blipFill>
          <a:blip r:embed="rId7"/>
          <a:stretch/>
        </p:blipFill>
        <p:spPr>
          <a:xfrm>
            <a:off x="2311560" y="6281640"/>
            <a:ext cx="660240" cy="57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"/>
          <p:cNvPicPr/>
          <p:nvPr/>
        </p:nvPicPr>
        <p:blipFill>
          <a:blip r:embed="rId8"/>
          <a:stretch/>
        </p:blipFill>
        <p:spPr>
          <a:xfrm>
            <a:off x="1079640" y="5256360"/>
            <a:ext cx="647640" cy="558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"/>
          <p:cNvPicPr/>
          <p:nvPr/>
        </p:nvPicPr>
        <p:blipFill>
          <a:blip r:embed="rId9"/>
          <a:stretch/>
        </p:blipFill>
        <p:spPr>
          <a:xfrm>
            <a:off x="1808280" y="5211720"/>
            <a:ext cx="662040" cy="647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"/>
          <p:cNvPicPr/>
          <p:nvPr/>
        </p:nvPicPr>
        <p:blipFill>
          <a:blip r:embed="rId10"/>
          <a:stretch/>
        </p:blipFill>
        <p:spPr>
          <a:xfrm>
            <a:off x="2581200" y="5214960"/>
            <a:ext cx="1114560" cy="641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image.mustang50magazine.com/f/9594265/m5lp_0612_04_z+wheel_and_tire_guide+bfgoodrich_g_force_ta_kdw.jpg"/>
          <p:cNvPicPr/>
          <p:nvPr/>
        </p:nvPicPr>
        <p:blipFill>
          <a:blip r:embed="rId11"/>
          <a:stretch/>
        </p:blipFill>
        <p:spPr>
          <a:xfrm>
            <a:off x="8445600" y="4910040"/>
            <a:ext cx="4824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"/>
          <p:cNvGraphicFramePr/>
          <p:nvPr/>
        </p:nvGraphicFramePr>
        <p:xfrm>
          <a:off x="0" y="333360"/>
          <a:ext cx="5896080" cy="32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589608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2300400" y="3382920"/>
          <a:ext cx="6843600" cy="347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0400" y="3382920"/>
                    <a:ext cx="68436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Connecteur droit 6"/>
          <p:cNvSpPr/>
          <p:nvPr/>
        </p:nvSpPr>
        <p:spPr>
          <a:xfrm flipH="1">
            <a:off x="6622920" y="4191120"/>
            <a:ext cx="1035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necteur droit 8"/>
          <p:cNvSpPr/>
          <p:nvPr/>
        </p:nvSpPr>
        <p:spPr>
          <a:xfrm flipH="1">
            <a:off x="6614640" y="4186080"/>
            <a:ext cx="3240" cy="88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onnecteur droit 10"/>
          <p:cNvSpPr/>
          <p:nvPr/>
        </p:nvSpPr>
        <p:spPr>
          <a:xfrm>
            <a:off x="6610320" y="5073480"/>
            <a:ext cx="7048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onnecteur droit 12"/>
          <p:cNvSpPr/>
          <p:nvPr/>
        </p:nvSpPr>
        <p:spPr>
          <a:xfrm>
            <a:off x="7327800" y="5067360"/>
            <a:ext cx="0" cy="88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necteur droit 14"/>
          <p:cNvSpPr/>
          <p:nvPr/>
        </p:nvSpPr>
        <p:spPr>
          <a:xfrm flipH="1">
            <a:off x="6584760" y="5956200"/>
            <a:ext cx="236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Image1"/>
          <p:cNvPicPr/>
          <p:nvPr/>
        </p:nvPicPr>
        <p:blipFill>
          <a:blip r:embed="rId5"/>
          <a:stretch/>
        </p:blipFill>
        <p:spPr>
          <a:xfrm>
            <a:off x="4572000" y="647640"/>
            <a:ext cx="760320" cy="768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Image1"/>
          <p:cNvPicPr/>
          <p:nvPr/>
        </p:nvPicPr>
        <p:blipFill>
          <a:blip r:embed="rId6"/>
          <a:stretch/>
        </p:blipFill>
        <p:spPr>
          <a:xfrm>
            <a:off x="7650000" y="3811680"/>
            <a:ext cx="760680" cy="766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advantime_bdv_s"/>
          <p:cNvPicPr/>
          <p:nvPr/>
        </p:nvPicPr>
        <p:blipFill>
          <a:blip r:embed="rId7"/>
          <a:stretch/>
        </p:blipFill>
        <p:spPr>
          <a:xfrm>
            <a:off x="1677960" y="4227480"/>
            <a:ext cx="660600" cy="57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http://image.mustang50magazine.com/f/9594265/m5lp_0612_04_z+wheel_and_tire_guide+bfgoodrich_g_force_ta_kdw.jpg"/>
          <p:cNvPicPr/>
          <p:nvPr/>
        </p:nvPicPr>
        <p:blipFill>
          <a:blip r:embed="rId8"/>
          <a:stretch/>
        </p:blipFill>
        <p:spPr>
          <a:xfrm>
            <a:off x="8661240" y="5991120"/>
            <a:ext cx="482760" cy="642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http://image.mustang50magazine.com/f/9594265/m5lp_0612_04_z+wheel_and_tire_guide+bfgoodrich_g_force_ta_kdw.jpg"/>
          <p:cNvPicPr/>
          <p:nvPr/>
        </p:nvPicPr>
        <p:blipFill>
          <a:blip r:embed="rId9"/>
          <a:stretch/>
        </p:blipFill>
        <p:spPr>
          <a:xfrm>
            <a:off x="6278400" y="5991120"/>
            <a:ext cx="482760" cy="642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Différentiel3"/>
          <p:cNvPicPr/>
          <p:nvPr/>
        </p:nvPicPr>
        <p:blipFill>
          <a:blip r:embed="rId10"/>
          <a:stretch/>
        </p:blipFill>
        <p:spPr>
          <a:xfrm>
            <a:off x="8521560" y="4789440"/>
            <a:ext cx="622440" cy="5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http://image.mustang50magazine.com/f/9594265/m5lp_0612_04_z+wheel_and_tire_guide+bfgoodrich_g_force_ta_kdw.jpg"/>
          <p:cNvPicPr/>
          <p:nvPr/>
        </p:nvPicPr>
        <p:blipFill>
          <a:blip r:embed="rId11"/>
          <a:stretch/>
        </p:blipFill>
        <p:spPr>
          <a:xfrm>
            <a:off x="5578560" y="2584440"/>
            <a:ext cx="482400" cy="642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http://image.mustang50magazine.com/f/9594265/m5lp_0612_04_z+wheel_and_tire_guide+bfgoodrich_g_force_ta_kdw.jpg"/>
          <p:cNvPicPr/>
          <p:nvPr/>
        </p:nvPicPr>
        <p:blipFill>
          <a:blip r:embed="rId12"/>
          <a:stretch/>
        </p:blipFill>
        <p:spPr>
          <a:xfrm>
            <a:off x="3365640" y="2584440"/>
            <a:ext cx="4824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2"/>
          <p:cNvGraphicFramePr/>
          <p:nvPr/>
        </p:nvGraphicFramePr>
        <p:xfrm>
          <a:off x="0" y="333360"/>
          <a:ext cx="5896080" cy="32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589608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2266920" y="3371760"/>
          <a:ext cx="6877080" cy="348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6920" y="3371760"/>
                    <a:ext cx="68770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6" descr="Image1"/>
          <p:cNvPicPr/>
          <p:nvPr/>
        </p:nvPicPr>
        <p:blipFill>
          <a:blip r:embed="rId5"/>
          <a:stretch/>
        </p:blipFill>
        <p:spPr>
          <a:xfrm>
            <a:off x="4572000" y="647640"/>
            <a:ext cx="760320" cy="768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http://image.mustang50magazine.com/f/9594265/m5lp_0612_04_z+wheel_and_tire_guide+bfgoodrich_g_force_ta_kdw.jpg"/>
          <p:cNvPicPr/>
          <p:nvPr/>
        </p:nvPicPr>
        <p:blipFill>
          <a:blip r:embed="rId6"/>
          <a:stretch/>
        </p:blipFill>
        <p:spPr>
          <a:xfrm>
            <a:off x="5578560" y="2584440"/>
            <a:ext cx="482400" cy="642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http://image.mustang50magazine.com/f/9594265/m5lp_0612_04_z+wheel_and_tire_guide+bfgoodrich_g_force_ta_kdw.jpg"/>
          <p:cNvPicPr/>
          <p:nvPr/>
        </p:nvPicPr>
        <p:blipFill>
          <a:blip r:embed="rId7"/>
          <a:stretch/>
        </p:blipFill>
        <p:spPr>
          <a:xfrm>
            <a:off x="3365640" y="2584440"/>
            <a:ext cx="482400" cy="642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Image1"/>
          <p:cNvPicPr/>
          <p:nvPr/>
        </p:nvPicPr>
        <p:blipFill>
          <a:blip r:embed="rId8"/>
          <a:stretch/>
        </p:blipFill>
        <p:spPr>
          <a:xfrm>
            <a:off x="7650000" y="3811680"/>
            <a:ext cx="760680" cy="766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advantime_bdv_s"/>
          <p:cNvPicPr/>
          <p:nvPr/>
        </p:nvPicPr>
        <p:blipFill>
          <a:blip r:embed="rId9"/>
          <a:stretch/>
        </p:blipFill>
        <p:spPr>
          <a:xfrm>
            <a:off x="1622520" y="4227480"/>
            <a:ext cx="660240" cy="5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http://image.mustang50magazine.com/f/9594265/m5lp_0612_04_z+wheel_and_tire_guide+bfgoodrich_g_force_ta_kdw.jpg"/>
          <p:cNvPicPr/>
          <p:nvPr/>
        </p:nvPicPr>
        <p:blipFill>
          <a:blip r:embed="rId10"/>
          <a:stretch/>
        </p:blipFill>
        <p:spPr>
          <a:xfrm>
            <a:off x="8661240" y="5991120"/>
            <a:ext cx="482760" cy="642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http://image.mustang50magazine.com/f/9594265/m5lp_0612_04_z+wheel_and_tire_guide+bfgoodrich_g_force_ta_kdw.jpg"/>
          <p:cNvPicPr/>
          <p:nvPr/>
        </p:nvPicPr>
        <p:blipFill>
          <a:blip r:embed="rId11"/>
          <a:stretch/>
        </p:blipFill>
        <p:spPr>
          <a:xfrm>
            <a:off x="6278400" y="5991120"/>
            <a:ext cx="482760" cy="642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Différentiel3"/>
          <p:cNvPicPr/>
          <p:nvPr/>
        </p:nvPicPr>
        <p:blipFill>
          <a:blip r:embed="rId12"/>
          <a:stretch/>
        </p:blipFill>
        <p:spPr>
          <a:xfrm>
            <a:off x="8521560" y="4789440"/>
            <a:ext cx="622440" cy="5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2"/>
          <p:cNvGraphicFramePr/>
          <p:nvPr/>
        </p:nvGraphicFramePr>
        <p:xfrm>
          <a:off x="0" y="333360"/>
          <a:ext cx="5896080" cy="32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589608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2266920" y="3371760"/>
          <a:ext cx="6877080" cy="348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6920" y="3371760"/>
                    <a:ext cx="68770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Picture 6" descr="Image1"/>
          <p:cNvPicPr/>
          <p:nvPr/>
        </p:nvPicPr>
        <p:blipFill>
          <a:blip r:embed="rId5"/>
          <a:stretch/>
        </p:blipFill>
        <p:spPr>
          <a:xfrm>
            <a:off x="4572000" y="647640"/>
            <a:ext cx="760320" cy="768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http://image.mustang50magazine.com/f/9594265/m5lp_0612_04_z+wheel_and_tire_guide+bfgoodrich_g_force_ta_kdw.jpg"/>
          <p:cNvPicPr/>
          <p:nvPr/>
        </p:nvPicPr>
        <p:blipFill>
          <a:blip r:embed="rId6"/>
          <a:stretch/>
        </p:blipFill>
        <p:spPr>
          <a:xfrm>
            <a:off x="5578560" y="2584440"/>
            <a:ext cx="482400" cy="642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http://image.mustang50magazine.com/f/9594265/m5lp_0612_04_z+wheel_and_tire_guide+bfgoodrich_g_force_ta_kdw.jpg"/>
          <p:cNvPicPr/>
          <p:nvPr/>
        </p:nvPicPr>
        <p:blipFill>
          <a:blip r:embed="rId7"/>
          <a:stretch/>
        </p:blipFill>
        <p:spPr>
          <a:xfrm>
            <a:off x="3365640" y="2584440"/>
            <a:ext cx="482400" cy="642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Image1"/>
          <p:cNvPicPr/>
          <p:nvPr/>
        </p:nvPicPr>
        <p:blipFill>
          <a:blip r:embed="rId8"/>
          <a:stretch/>
        </p:blipFill>
        <p:spPr>
          <a:xfrm>
            <a:off x="7650000" y="3811680"/>
            <a:ext cx="760680" cy="766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advantime_bdv_s"/>
          <p:cNvPicPr/>
          <p:nvPr/>
        </p:nvPicPr>
        <p:blipFill>
          <a:blip r:embed="rId9"/>
          <a:stretch/>
        </p:blipFill>
        <p:spPr>
          <a:xfrm>
            <a:off x="1622520" y="4227480"/>
            <a:ext cx="660240" cy="576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http://image.mustang50magazine.com/f/9594265/m5lp_0612_04_z+wheel_and_tire_guide+bfgoodrich_g_force_ta_kdw.jpg"/>
          <p:cNvPicPr/>
          <p:nvPr/>
        </p:nvPicPr>
        <p:blipFill>
          <a:blip r:embed="rId10"/>
          <a:stretch/>
        </p:blipFill>
        <p:spPr>
          <a:xfrm>
            <a:off x="8661240" y="5991120"/>
            <a:ext cx="482760" cy="642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http://image.mustang50magazine.com/f/9594265/m5lp_0612_04_z+wheel_and_tire_guide+bfgoodrich_g_force_ta_kdw.jpg"/>
          <p:cNvPicPr/>
          <p:nvPr/>
        </p:nvPicPr>
        <p:blipFill>
          <a:blip r:embed="rId11"/>
          <a:stretch/>
        </p:blipFill>
        <p:spPr>
          <a:xfrm>
            <a:off x="6278400" y="5991120"/>
            <a:ext cx="482760" cy="642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Différentiel3"/>
          <p:cNvPicPr/>
          <p:nvPr/>
        </p:nvPicPr>
        <p:blipFill>
          <a:blip r:embed="rId12"/>
          <a:stretch/>
        </p:blipFill>
        <p:spPr>
          <a:xfrm>
            <a:off x="8521560" y="4789440"/>
            <a:ext cx="622440" cy="5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2"/>
          <p:cNvGraphicFramePr/>
          <p:nvPr/>
        </p:nvGraphicFramePr>
        <p:xfrm>
          <a:off x="0" y="333360"/>
          <a:ext cx="5896080" cy="32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589608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2266920" y="3371760"/>
          <a:ext cx="6877080" cy="348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6920" y="3371760"/>
                    <a:ext cx="68770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Picture 6" descr="Image1"/>
          <p:cNvPicPr/>
          <p:nvPr/>
        </p:nvPicPr>
        <p:blipFill>
          <a:blip r:embed="rId5"/>
          <a:stretch/>
        </p:blipFill>
        <p:spPr>
          <a:xfrm>
            <a:off x="4572000" y="647640"/>
            <a:ext cx="760320" cy="768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http://image.mustang50magazine.com/f/9594265/m5lp_0612_04_z+wheel_and_tire_guide+bfgoodrich_g_force_ta_kdw.jpg"/>
          <p:cNvPicPr/>
          <p:nvPr/>
        </p:nvPicPr>
        <p:blipFill>
          <a:blip r:embed="rId6"/>
          <a:stretch/>
        </p:blipFill>
        <p:spPr>
          <a:xfrm>
            <a:off x="5578560" y="2584440"/>
            <a:ext cx="482400" cy="64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http://image.mustang50magazine.com/f/9594265/m5lp_0612_04_z+wheel_and_tire_guide+bfgoodrich_g_force_ta_kdw.jpg"/>
          <p:cNvPicPr/>
          <p:nvPr/>
        </p:nvPicPr>
        <p:blipFill>
          <a:blip r:embed="rId7"/>
          <a:stretch/>
        </p:blipFill>
        <p:spPr>
          <a:xfrm>
            <a:off x="3365640" y="2584440"/>
            <a:ext cx="482400" cy="64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Image1"/>
          <p:cNvPicPr/>
          <p:nvPr/>
        </p:nvPicPr>
        <p:blipFill>
          <a:blip r:embed="rId8"/>
          <a:stretch/>
        </p:blipFill>
        <p:spPr>
          <a:xfrm>
            <a:off x="7650000" y="3811680"/>
            <a:ext cx="760680" cy="766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advantime_bdv_s"/>
          <p:cNvPicPr/>
          <p:nvPr/>
        </p:nvPicPr>
        <p:blipFill>
          <a:blip r:embed="rId9"/>
          <a:stretch/>
        </p:blipFill>
        <p:spPr>
          <a:xfrm>
            <a:off x="1622520" y="4227480"/>
            <a:ext cx="66024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http://image.mustang50magazine.com/f/9594265/m5lp_0612_04_z+wheel_and_tire_guide+bfgoodrich_g_force_ta_kdw.jpg"/>
          <p:cNvPicPr/>
          <p:nvPr/>
        </p:nvPicPr>
        <p:blipFill>
          <a:blip r:embed="rId10"/>
          <a:stretch/>
        </p:blipFill>
        <p:spPr>
          <a:xfrm>
            <a:off x="8661240" y="5991120"/>
            <a:ext cx="482760" cy="642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http://image.mustang50magazine.com/f/9594265/m5lp_0612_04_z+wheel_and_tire_guide+bfgoodrich_g_force_ta_kdw.jpg"/>
          <p:cNvPicPr/>
          <p:nvPr/>
        </p:nvPicPr>
        <p:blipFill>
          <a:blip r:embed="rId11"/>
          <a:stretch/>
        </p:blipFill>
        <p:spPr>
          <a:xfrm>
            <a:off x="6278400" y="5991120"/>
            <a:ext cx="482760" cy="642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Différentiel3"/>
          <p:cNvPicPr/>
          <p:nvPr/>
        </p:nvPicPr>
        <p:blipFill>
          <a:blip r:embed="rId12"/>
          <a:stretch/>
        </p:blipFill>
        <p:spPr>
          <a:xfrm>
            <a:off x="8521560" y="4789440"/>
            <a:ext cx="622440" cy="5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0" y="333360"/>
          <a:ext cx="5896080" cy="32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589608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2266920" y="3371760"/>
          <a:ext cx="6877080" cy="348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6920" y="3371760"/>
                    <a:ext cx="68770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Picture 6" descr="Image1"/>
          <p:cNvPicPr/>
          <p:nvPr/>
        </p:nvPicPr>
        <p:blipFill>
          <a:blip r:embed="rId5"/>
          <a:stretch/>
        </p:blipFill>
        <p:spPr>
          <a:xfrm>
            <a:off x="4572000" y="647640"/>
            <a:ext cx="760320" cy="768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http://image.mustang50magazine.com/f/9594265/m5lp_0612_04_z+wheel_and_tire_guide+bfgoodrich_g_force_ta_kdw.jpg"/>
          <p:cNvPicPr/>
          <p:nvPr/>
        </p:nvPicPr>
        <p:blipFill>
          <a:blip r:embed="rId6"/>
          <a:stretch/>
        </p:blipFill>
        <p:spPr>
          <a:xfrm>
            <a:off x="5578560" y="2584440"/>
            <a:ext cx="482400" cy="642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http://image.mustang50magazine.com/f/9594265/m5lp_0612_04_z+wheel_and_tire_guide+bfgoodrich_g_force_ta_kdw.jpg"/>
          <p:cNvPicPr/>
          <p:nvPr/>
        </p:nvPicPr>
        <p:blipFill>
          <a:blip r:embed="rId7"/>
          <a:stretch/>
        </p:blipFill>
        <p:spPr>
          <a:xfrm>
            <a:off x="3365640" y="2584440"/>
            <a:ext cx="482400" cy="642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Image1"/>
          <p:cNvPicPr/>
          <p:nvPr/>
        </p:nvPicPr>
        <p:blipFill>
          <a:blip r:embed="rId8"/>
          <a:stretch/>
        </p:blipFill>
        <p:spPr>
          <a:xfrm>
            <a:off x="7650000" y="3811680"/>
            <a:ext cx="760680" cy="766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advantime_bdv_s"/>
          <p:cNvPicPr/>
          <p:nvPr/>
        </p:nvPicPr>
        <p:blipFill>
          <a:blip r:embed="rId9"/>
          <a:stretch/>
        </p:blipFill>
        <p:spPr>
          <a:xfrm>
            <a:off x="1622520" y="4227480"/>
            <a:ext cx="660240" cy="57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6" descr="http://image.mustang50magazine.com/f/9594265/m5lp_0612_04_z+wheel_and_tire_guide+bfgoodrich_g_force_ta_kdw.jpg"/>
          <p:cNvPicPr/>
          <p:nvPr/>
        </p:nvPicPr>
        <p:blipFill>
          <a:blip r:embed="rId10"/>
          <a:stretch/>
        </p:blipFill>
        <p:spPr>
          <a:xfrm>
            <a:off x="8661240" y="5991120"/>
            <a:ext cx="482760" cy="642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http://image.mustang50magazine.com/f/9594265/m5lp_0612_04_z+wheel_and_tire_guide+bfgoodrich_g_force_ta_kdw.jpg"/>
          <p:cNvPicPr/>
          <p:nvPr/>
        </p:nvPicPr>
        <p:blipFill>
          <a:blip r:embed="rId11"/>
          <a:stretch/>
        </p:blipFill>
        <p:spPr>
          <a:xfrm>
            <a:off x="6278400" y="5991120"/>
            <a:ext cx="482760" cy="642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Différentiel3"/>
          <p:cNvPicPr/>
          <p:nvPr/>
        </p:nvPicPr>
        <p:blipFill>
          <a:blip r:embed="rId12"/>
          <a:stretch/>
        </p:blipFill>
        <p:spPr>
          <a:xfrm>
            <a:off x="8521560" y="4789440"/>
            <a:ext cx="622440" cy="5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0" y="333360"/>
          <a:ext cx="5896080" cy="32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589608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3"/>
          <p:cNvGraphicFramePr/>
          <p:nvPr/>
        </p:nvGraphicFramePr>
        <p:xfrm>
          <a:off x="2266920" y="3371760"/>
          <a:ext cx="6877080" cy="348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6920" y="3371760"/>
                    <a:ext cx="68770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6" descr="Image1"/>
          <p:cNvPicPr/>
          <p:nvPr/>
        </p:nvPicPr>
        <p:blipFill>
          <a:blip r:embed="rId5"/>
          <a:stretch/>
        </p:blipFill>
        <p:spPr>
          <a:xfrm>
            <a:off x="4572000" y="647640"/>
            <a:ext cx="760320" cy="768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http://image.mustang50magazine.com/f/9594265/m5lp_0612_04_z+wheel_and_tire_guide+bfgoodrich_g_force_ta_kdw.jpg"/>
          <p:cNvPicPr/>
          <p:nvPr/>
        </p:nvPicPr>
        <p:blipFill>
          <a:blip r:embed="rId6"/>
          <a:stretch/>
        </p:blipFill>
        <p:spPr>
          <a:xfrm>
            <a:off x="5578560" y="2584440"/>
            <a:ext cx="482400" cy="642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http://image.mustang50magazine.com/f/9594265/m5lp_0612_04_z+wheel_and_tire_guide+bfgoodrich_g_force_ta_kdw.jpg"/>
          <p:cNvPicPr/>
          <p:nvPr/>
        </p:nvPicPr>
        <p:blipFill>
          <a:blip r:embed="rId7"/>
          <a:stretch/>
        </p:blipFill>
        <p:spPr>
          <a:xfrm>
            <a:off x="3365640" y="2584440"/>
            <a:ext cx="482400" cy="642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Image1"/>
          <p:cNvPicPr/>
          <p:nvPr/>
        </p:nvPicPr>
        <p:blipFill>
          <a:blip r:embed="rId8"/>
          <a:stretch/>
        </p:blipFill>
        <p:spPr>
          <a:xfrm>
            <a:off x="7650000" y="3811680"/>
            <a:ext cx="760680" cy="766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advantime_bdv_s"/>
          <p:cNvPicPr/>
          <p:nvPr/>
        </p:nvPicPr>
        <p:blipFill>
          <a:blip r:embed="rId9"/>
          <a:stretch/>
        </p:blipFill>
        <p:spPr>
          <a:xfrm>
            <a:off x="1622520" y="4227480"/>
            <a:ext cx="660240" cy="5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http://image.mustang50magazine.com/f/9594265/m5lp_0612_04_z+wheel_and_tire_guide+bfgoodrich_g_force_ta_kdw.jpg"/>
          <p:cNvPicPr/>
          <p:nvPr/>
        </p:nvPicPr>
        <p:blipFill>
          <a:blip r:embed="rId10"/>
          <a:stretch/>
        </p:blipFill>
        <p:spPr>
          <a:xfrm>
            <a:off x="8661240" y="5991120"/>
            <a:ext cx="482760" cy="642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http://image.mustang50magazine.com/f/9594265/m5lp_0612_04_z+wheel_and_tire_guide+bfgoodrich_g_force_ta_kdw.jpg"/>
          <p:cNvPicPr/>
          <p:nvPr/>
        </p:nvPicPr>
        <p:blipFill>
          <a:blip r:embed="rId11"/>
          <a:stretch/>
        </p:blipFill>
        <p:spPr>
          <a:xfrm>
            <a:off x="6278400" y="5991120"/>
            <a:ext cx="482760" cy="642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Différentiel3"/>
          <p:cNvPicPr/>
          <p:nvPr/>
        </p:nvPicPr>
        <p:blipFill>
          <a:blip r:embed="rId12"/>
          <a:stretch/>
        </p:blipFill>
        <p:spPr>
          <a:xfrm>
            <a:off x="8521560" y="4789440"/>
            <a:ext cx="622440" cy="5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3:28:11Z</dcterms:created>
  <dc:creator>Jordi et Mariejo</dc:creator>
  <dc:description/>
  <dc:language>en-US</dc:language>
  <cp:lastModifiedBy> </cp:lastModifiedBy>
  <dcterms:modified xsi:type="dcterms:W3CDTF">2009-03-25T10:59:11Z</dcterms:modified>
  <cp:revision>1695</cp:revision>
  <dc:subject/>
  <dc:title>Diapositive 1</dc:title>
</cp:coreProperties>
</file>